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wmf" ContentType="image/x-wmf"/>
  <Override PartName="/ppt/media/image7.jpeg" ContentType="image/jpeg"/>
  <Override PartName="/ppt/media/image18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2.png" ContentType="image/png"/>
  <Override PartName="/ppt/media/image20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2597-D785-4AC1-BD68-CBCF1B03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892A-C925-4C18-AD6D-93EE5099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A6A6-5488-42ED-9F51-1B5E9A0A3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7699-F899-446F-BE0A-F39848E9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C165-F760-440C-9B38-1897ED14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04DF-3413-4A98-85B9-98C37E2A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4ECE-7702-4F9C-8FDB-96DAB60F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9006-40D3-4742-9396-8B2A0464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57FD-91D2-4168-9238-2E6A8D67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B45E-B7DD-4A34-A667-5208EF52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6482-B1BC-4266-944C-E2F8537C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B07F-5CEE-4303-9A3D-E6A78869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88BE-551C-4DDA-B7C5-B029C5C8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5395-3DC3-4853-9FBB-FCD2AEC6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87C8-3013-477D-AE35-5295775C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1253-788A-4A70-9B60-90B25BB6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A083-F3D9-4562-91C5-10659E22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ECA60-A8FC-4062-A9BE-65894B96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35017-760C-4DE9-84F3-7C0971C9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30FB7-1E1C-47CA-9346-67AE29E9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0C587-AB51-4749-A45C-F3A63A81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9ABD6-D113-41FA-BCDC-A7BDCF3A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ED1F-00DD-441B-BF6A-D5402E21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0CAEC-5E16-4DAC-BDE1-01F56967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7974D-9075-4D0F-86F6-44C137F3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2F8B7-1F33-42B2-BE5D-2C6385B3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0C7F3-4B41-4E62-93DF-77D13122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87747-8C3C-403B-9F85-2D6A0EEB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EF048-1317-4823-8516-D1AE4BE1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869C6-D432-40A4-B45E-957775C2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50EA-6A23-4D5C-9AF8-69F8D3EA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30BA-1D4D-4AE6-8D3A-9022F1A8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BDA8-D590-41F0-8426-AE45CB6C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0D09-3193-4A44-9899-961E4968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2F8B-5480-40C1-97B3-CA57AED8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DF3B-6E48-49B7-BB1A-70F08653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FE71-E0C3-4034-A3DB-269CB0C65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76A4-BE28-4C94-B46D-86A7E38AF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17F9-7870-440C-A6BF-F11989C94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0" descr="0df2-[Converted]"/>
          <p:cNvPicPr/>
          <p:nvPr/>
        </p:nvPicPr>
        <p:blipFill>
          <a:blip r:embed="rId3"/>
          <a:stretch/>
        </p:blipFill>
        <p:spPr>
          <a:xfrm>
            <a:off x="1357200" y="4357800"/>
            <a:ext cx="3807000" cy="264312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6" descr="tm.jpg"/>
          <p:cNvPicPr/>
          <p:nvPr/>
        </p:nvPicPr>
        <p:blipFill>
          <a:blip r:embed="rId4"/>
          <a:stretch/>
        </p:blipFill>
        <p:spPr>
          <a:xfrm>
            <a:off x="971640" y="1773360"/>
            <a:ext cx="7467480" cy="1800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9" descr="未命名-6eee"/>
          <p:cNvPicPr/>
          <p:nvPr/>
        </p:nvPicPr>
        <p:blipFill>
          <a:blip r:embed="rId5"/>
          <a:srcRect l="0" t="0" r="3999" b="0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9" descr="未命名-6eee"/>
          <p:cNvPicPr/>
          <p:nvPr/>
        </p:nvPicPr>
        <p:blipFill>
          <a:blip r:embed="rId6"/>
          <a:srcRect l="0" t="0" r="3999" b="0"/>
          <a:stretch/>
        </p:blipFill>
        <p:spPr>
          <a:xfrm>
            <a:off x="0" y="0"/>
            <a:ext cx="9144000" cy="1514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94960" y="45910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楷体"/>
                <a:ea typeface="楷体"/>
              </a:rPr>
              <a:t>武进区寨桥小学  孔雪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03640" y="3357720"/>
            <a:ext cx="358128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微软雅黑"/>
              </a:rPr>
              <a:t>——</a:t>
            </a: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微软雅黑"/>
              </a:rPr>
              <a:t>从条件想起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微软雅黑"/>
              <a:ea typeface="微软雅黑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95280" y="260280"/>
            <a:ext cx="304308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看条件 提问题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9" name="Line 2"/>
          <p:cNvSpPr/>
          <p:nvPr/>
        </p:nvSpPr>
        <p:spPr>
          <a:xfrm>
            <a:off x="5985720" y="2068920"/>
            <a:ext cx="1149120" cy="4309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"/>
          <p:cNvSpPr/>
          <p:nvPr/>
        </p:nvSpPr>
        <p:spPr>
          <a:xfrm flipH="1">
            <a:off x="5957280" y="2595600"/>
            <a:ext cx="1118880" cy="5032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611280" y="2716920"/>
            <a:ext cx="5184720" cy="550800"/>
          </a:xfrm>
          <a:prstGeom prst="rect">
            <a:avLst/>
          </a:prstGeom>
          <a:solidFill>
            <a:srgbClr val="8fccd1">
              <a:alpha val="48000"/>
            </a:srgbClr>
          </a:solidFill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买的圆珠笔比钢笔多</a:t>
            </a:r>
            <a:r>
              <a:rPr b="1" lang="en-US" sz="30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18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611280" y="1759680"/>
            <a:ext cx="5184720" cy="550800"/>
          </a:xfrm>
          <a:prstGeom prst="rect">
            <a:avLst/>
          </a:prstGeom>
          <a:solidFill>
            <a:srgbClr val="8fccd1">
              <a:alpha val="48000"/>
            </a:srgbClr>
          </a:solidFill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买了</a:t>
            </a:r>
            <a:r>
              <a:rPr b="1" lang="en-US" sz="30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盒钢笔，每盒</a:t>
            </a:r>
            <a:r>
              <a:rPr b="1" lang="en-US" sz="30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1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7093080" y="2205000"/>
            <a:ext cx="1873080" cy="550800"/>
          </a:xfrm>
          <a:prstGeom prst="rect">
            <a:avLst/>
          </a:prstGeom>
          <a:noFill/>
          <a:ln w="28440">
            <a:solidFill>
              <a:srgbClr val="77c7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71280" y="3500280"/>
            <a:ext cx="8964720" cy="1629720"/>
          </a:xfrm>
          <a:prstGeom prst="rect">
            <a:avLst/>
          </a:prstGeom>
          <a:noFill/>
          <a:ln w="28440">
            <a:solidFill>
              <a:srgbClr val="6699ff"/>
            </a:solidFill>
            <a:miter/>
          </a:ln>
          <a:effectLst>
            <a:outerShdw dist="17819" dir="2700000" blurRad="0" rotWithShape="0">
              <a:srgbClr val="4777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根据（       ）和（       ），求出（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根据（         ）和（                      ），求出（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1378080" y="1751040"/>
            <a:ext cx="196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盒钢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3098880" y="1762200"/>
            <a:ext cx="1904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盒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1382760" y="2708280"/>
            <a:ext cx="405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珠笔比钢笔多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4"/>
          <p:cNvSpPr/>
          <p:nvPr/>
        </p:nvSpPr>
        <p:spPr>
          <a:xfrm>
            <a:off x="6875640" y="3571920"/>
            <a:ext cx="194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钢笔支数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5"/>
          <p:cNvSpPr/>
          <p:nvPr/>
        </p:nvSpPr>
        <p:spPr>
          <a:xfrm>
            <a:off x="7164360" y="2205000"/>
            <a:ext cx="180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钢笔支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6"/>
          <p:cNvSpPr/>
          <p:nvPr/>
        </p:nvSpPr>
        <p:spPr>
          <a:xfrm>
            <a:off x="1547640" y="4056120"/>
            <a:ext cx="201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钢笔支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7"/>
          <p:cNvSpPr/>
          <p:nvPr/>
        </p:nvSpPr>
        <p:spPr>
          <a:xfrm>
            <a:off x="1330200" y="4581360"/>
            <a:ext cx="241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珠笔支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189160" y="5229360"/>
            <a:ext cx="86652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式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56920" y="5759280"/>
            <a:ext cx="2509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+18=4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381480" y="5235480"/>
            <a:ext cx="2311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×10=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"/>
                            </p:stCondLst>
                            <p:childTnLst>
                              <p:par>
                                <p:cTn id="3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0 L 0.005347 0.25713 E">
                                      <p:cBhvr>
                                        <p:cTn id="345" dur="1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"/>
                            </p:stCondLst>
                            <p:childTnLst>
                              <p:par>
                                <p:cTn id="3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9.3E-005 L 0.064861 0.255556 E">
                                      <p:cBhvr>
                                        <p:cTn id="352" dur="1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"/>
                            </p:stCondLst>
                            <p:childTnLst>
                              <p:par>
                                <p:cTn id="3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89 -0.000185 L 0.308264 0.201574 E">
                                      <p:cBhvr>
                                        <p:cTn id="380" dur="1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Oval 4"/>
          <p:cNvSpPr/>
          <p:nvPr/>
        </p:nvSpPr>
        <p:spPr>
          <a:xfrm>
            <a:off x="3419640" y="2666880"/>
            <a:ext cx="1366560" cy="792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5"/>
          <p:cNvSpPr/>
          <p:nvPr/>
        </p:nvSpPr>
        <p:spPr>
          <a:xfrm>
            <a:off x="6012000" y="2666880"/>
            <a:ext cx="1366560" cy="792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6"/>
          <p:cNvSpPr/>
          <p:nvPr/>
        </p:nvSpPr>
        <p:spPr>
          <a:xfrm>
            <a:off x="4788000" y="3098880"/>
            <a:ext cx="122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7"/>
          <p:cNvSpPr/>
          <p:nvPr/>
        </p:nvSpPr>
        <p:spPr>
          <a:xfrm>
            <a:off x="2052720" y="1125360"/>
            <a:ext cx="1366920" cy="792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8"/>
          <p:cNvSpPr/>
          <p:nvPr/>
        </p:nvSpPr>
        <p:spPr>
          <a:xfrm>
            <a:off x="4675320" y="1154160"/>
            <a:ext cx="1366560" cy="79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3421080" y="1557360"/>
            <a:ext cx="1227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5421240" y="3112920"/>
            <a:ext cx="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1"/>
          <p:cNvSpPr/>
          <p:nvPr/>
        </p:nvSpPr>
        <p:spPr>
          <a:xfrm>
            <a:off x="4068720" y="1585800"/>
            <a:ext cx="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2"/>
          <p:cNvSpPr/>
          <p:nvPr/>
        </p:nvSpPr>
        <p:spPr>
          <a:xfrm>
            <a:off x="4789440" y="4178160"/>
            <a:ext cx="1366920" cy="792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45"/>
          <p:cNvSpPr/>
          <p:nvPr/>
        </p:nvSpPr>
        <p:spPr>
          <a:xfrm>
            <a:off x="4211640" y="3863880"/>
            <a:ext cx="0" cy="1513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6"/>
          <p:cNvSpPr/>
          <p:nvPr/>
        </p:nvSpPr>
        <p:spPr>
          <a:xfrm>
            <a:off x="4211640" y="537372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7"/>
          <p:cNvSpPr/>
          <p:nvPr/>
        </p:nvSpPr>
        <p:spPr>
          <a:xfrm>
            <a:off x="5794200" y="544500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6283440" y="495144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13800" y="1263600"/>
            <a:ext cx="607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042880" y="1263600"/>
            <a:ext cx="607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73080" y="2790720"/>
            <a:ext cx="607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78560" y="2790720"/>
            <a:ext cx="607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146920" y="4303800"/>
            <a:ext cx="607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547640" y="1125360"/>
            <a:ext cx="4248360" cy="5050080"/>
            <a:chOff x="1547640" y="1125360"/>
            <a:chExt cx="4248360" cy="5050080"/>
          </a:xfrm>
        </p:grpSpPr>
        <p:sp>
          <p:nvSpPr>
            <p:cNvPr id="304" name="Line 41"/>
            <p:cNvSpPr/>
            <p:nvPr/>
          </p:nvSpPr>
          <p:spPr>
            <a:xfrm>
              <a:off x="1547640" y="1125360"/>
              <a:ext cx="16920" cy="125208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42"/>
            <p:cNvSpPr/>
            <p:nvPr/>
          </p:nvSpPr>
          <p:spPr>
            <a:xfrm>
              <a:off x="1579320" y="2364840"/>
              <a:ext cx="117900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43"/>
            <p:cNvSpPr/>
            <p:nvPr/>
          </p:nvSpPr>
          <p:spPr>
            <a:xfrm>
              <a:off x="2771280" y="2349000"/>
              <a:ext cx="0" cy="151236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44"/>
            <p:cNvSpPr/>
            <p:nvPr/>
          </p:nvSpPr>
          <p:spPr>
            <a:xfrm>
              <a:off x="2788920" y="3863520"/>
              <a:ext cx="143964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45"/>
            <p:cNvSpPr/>
            <p:nvPr/>
          </p:nvSpPr>
          <p:spPr>
            <a:xfrm>
              <a:off x="4211640" y="3873600"/>
              <a:ext cx="0" cy="151308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46"/>
            <p:cNvSpPr/>
            <p:nvPr/>
          </p:nvSpPr>
          <p:spPr>
            <a:xfrm>
              <a:off x="4211640" y="5383440"/>
              <a:ext cx="158436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47"/>
            <p:cNvSpPr/>
            <p:nvPr/>
          </p:nvSpPr>
          <p:spPr>
            <a:xfrm>
              <a:off x="5794560" y="5454720"/>
              <a:ext cx="0" cy="72072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5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00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5280" y="333360"/>
            <a:ext cx="1765440" cy="66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用策略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rcRect l="10311" t="11437" r="11947" b="9804"/>
          <a:stretch/>
        </p:blipFill>
        <p:spPr>
          <a:xfrm>
            <a:off x="2411280" y="4724280"/>
            <a:ext cx="754200" cy="7653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68360" y="1341360"/>
            <a:ext cx="828036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球从</a:t>
            </a:r>
            <a:r>
              <a:rPr b="1" lang="en-US" sz="3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6</a:t>
            </a:r>
            <a:r>
              <a:rPr b="1" lang="zh-CN" sz="3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米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高处落下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32360" y="2709720"/>
            <a:ext cx="18432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1343160"/>
            <a:ext cx="919008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              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</a:t>
            </a:r>
            <a:r>
              <a:rPr b="1" lang="zh-CN" sz="3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每次弹起的高度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</a:t>
            </a:r>
            <a:r>
              <a:rPr b="1" lang="zh-CN" sz="3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是它下落高度的一半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3"/>
          <a:srcRect l="8733" t="7178" r="10352" b="3579"/>
          <a:stretch/>
        </p:blipFill>
        <p:spPr>
          <a:xfrm>
            <a:off x="34920" y="3718080"/>
            <a:ext cx="1779480" cy="219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0.08394 0.009 0.1439 0.016 0.1439 C 0.023 0.1439 0.029 0.08394 0.031 0 C 0.034 0.08394 0.04 0.1439 0.047 0.1439 C 0.054 0.1439 0.06 0.08394 0.062 0 C 0.065 0.08394 0.071 0.1439 0.078 0.1439 C 0.085 0.1439 0.092 0.08394 0.094 0 C 0.096 0.08394 0.102 0.1439 0.11 0.1439 C 0.116 0.1439 0.123 0.08394 0.125 0 C 0.127 0.08394 0.134 0.1439 0.141 0.1439 C 0.148 0.1439 0.154 0.08394 0.156 0 C 0.159 0.08394 0.165 0.1439 0.172 0.1439 C 0.179 0.1439 0.185 0.08394 0.188 0 C 0.19 0.08394 0.196 0.1439 0.203 0.1439 C 0.21 0.1439 0.217 0.08394 0.219 0 C 0.221 0.08394 0.227 0.1439 0.235 0.1439 C 0.242 0.1439 0.248 0.08394 0.25 0 E">
                                      <p:cBhvr>
                                        <p:cTn id="488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0"/>
          <p:cNvSpPr/>
          <p:nvPr/>
        </p:nvSpPr>
        <p:spPr>
          <a:xfrm>
            <a:off x="4140360" y="692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果每次弹起的高度总是它下落高度的一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481560" y="46080"/>
            <a:ext cx="1765080" cy="66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用策略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9" name=""/>
          <p:cNvSpPr/>
          <p:nvPr/>
        </p:nvSpPr>
        <p:spPr>
          <a:xfrm>
            <a:off x="828720" y="6597720"/>
            <a:ext cx="1511280" cy="216000"/>
          </a:xfrm>
          <a:prstGeom prst="ellipse">
            <a:avLst/>
          </a:prstGeom>
          <a:solidFill>
            <a:srgbClr val="9933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rcRect l="10311" t="11437" r="11947" b="9804"/>
          <a:stretch/>
        </p:blipFill>
        <p:spPr>
          <a:xfrm>
            <a:off x="1220760" y="0"/>
            <a:ext cx="754200" cy="765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623960" y="765000"/>
            <a:ext cx="0" cy="583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6880" y="189000"/>
            <a:ext cx="1116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3"/>
          <a:srcRect l="10311" t="11437" r="11947" b="9804"/>
          <a:stretch/>
        </p:blipFill>
        <p:spPr>
          <a:xfrm>
            <a:off x="1225440" y="6037200"/>
            <a:ext cx="754200" cy="7653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4"/>
          <a:srcRect l="10311" t="11437" r="11947" b="9804"/>
          <a:stretch/>
        </p:blipFill>
        <p:spPr>
          <a:xfrm>
            <a:off x="1225440" y="0"/>
            <a:ext cx="754200" cy="7650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5"/>
          <a:srcRect l="10311" t="11437" r="11947" b="9804"/>
          <a:stretch/>
        </p:blipFill>
        <p:spPr>
          <a:xfrm>
            <a:off x="1225440" y="3095640"/>
            <a:ext cx="754200" cy="765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6"/>
          <a:srcRect l="10311" t="11437" r="11947" b="9804"/>
          <a:stretch/>
        </p:blipFill>
        <p:spPr>
          <a:xfrm>
            <a:off x="1225440" y="6048360"/>
            <a:ext cx="754200" cy="76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431640" y="3284640"/>
            <a:ext cx="1116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？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-0.00925 L 0.0033 0.88133 E">
                                      <p:cBhvr>
                                        <p:cTn id="507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1.48508E-006 L 0.00191 -0.43002 E">
                                      <p:cBhvr>
                                        <p:cTn id="515" dur="2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3.96484E-006 L 0.00191 0.4261 E">
                                      <p:cBhvr>
                                        <p:cTn id="527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-7.30974E-007 L 0.00191 -0.21143 E">
                                      <p:cBhvr>
                                        <p:cTn id="535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3"/>
          <p:cNvSpPr/>
          <p:nvPr/>
        </p:nvSpPr>
        <p:spPr>
          <a:xfrm>
            <a:off x="2050920" y="121140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球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的高处落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5426280" y="172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果每次弹起的高度总是它下落高度的一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2030400" y="233856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弹起多少米？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682560" y="3645000"/>
          <a:ext cx="8139240" cy="1038240"/>
        </p:xfrm>
        <a:graphic>
          <a:graphicData uri="http://schemas.openxmlformats.org/drawingml/2006/table">
            <a:tbl>
              <a:tblPr/>
              <a:tblGrid>
                <a:gridCol w="1216080"/>
                <a:gridCol w="1730160"/>
                <a:gridCol w="1730520"/>
                <a:gridCol w="1730520"/>
                <a:gridCol w="1731960"/>
              </a:tblGrid>
              <a:tr h="50472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原来高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一次弹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二次弹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三次弹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第四次弹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53352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（     ）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（     ）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（     ）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（     ）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32" name="Text Box 26"/>
          <p:cNvSpPr/>
          <p:nvPr/>
        </p:nvSpPr>
        <p:spPr>
          <a:xfrm>
            <a:off x="2270160" y="41562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7"/>
          <p:cNvSpPr/>
          <p:nvPr/>
        </p:nvSpPr>
        <p:spPr>
          <a:xfrm>
            <a:off x="7451640" y="41562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8"/>
          <p:cNvSpPr/>
          <p:nvPr/>
        </p:nvSpPr>
        <p:spPr>
          <a:xfrm>
            <a:off x="5724360" y="41562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9"/>
          <p:cNvSpPr/>
          <p:nvPr/>
        </p:nvSpPr>
        <p:spPr>
          <a:xfrm>
            <a:off x="3995640" y="41562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rcRect l="8733" t="7178" r="10352" b="3579"/>
          <a:stretch/>
        </p:blipFill>
        <p:spPr>
          <a:xfrm>
            <a:off x="179280" y="1123920"/>
            <a:ext cx="1693800" cy="20890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395280" y="333360"/>
            <a:ext cx="1765440" cy="66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用策略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3"/>
          <p:cNvGrpSpPr/>
          <p:nvPr/>
        </p:nvGrpSpPr>
        <p:grpSpPr>
          <a:xfrm>
            <a:off x="4572000" y="3787920"/>
            <a:ext cx="360360" cy="360360"/>
            <a:chOff x="4572000" y="3787920"/>
            <a:chExt cx="360360" cy="360360"/>
          </a:xfrm>
        </p:grpSpPr>
        <p:sp>
          <p:nvSpPr>
            <p:cNvPr id="339" name="Oval 4"/>
            <p:cNvSpPr/>
            <p:nvPr/>
          </p:nvSpPr>
          <p:spPr>
            <a:xfrm>
              <a:off x="4572000" y="37879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5"/>
            <p:cNvSpPr/>
            <p:nvPr/>
          </p:nvSpPr>
          <p:spPr>
            <a:xfrm rot="1623600">
              <a:off x="4631040" y="3832920"/>
              <a:ext cx="41760" cy="13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Rectangle 6"/>
          <p:cNvSpPr/>
          <p:nvPr/>
        </p:nvSpPr>
        <p:spPr>
          <a:xfrm>
            <a:off x="395280" y="1314000"/>
            <a:ext cx="8280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18</a:t>
            </a:r>
            <a:r>
              <a:rPr b="0" lang="zh-CN" sz="30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个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朋友站成一排，从左往右数，芳芳排在第</a:t>
            </a:r>
            <a:r>
              <a:rPr b="0" lang="en-US" sz="30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8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从右往左数，兵兵排在第</a:t>
            </a:r>
            <a:r>
              <a:rPr b="0" lang="en-US" sz="30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芳芳和兵兵之间有多少人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7"/>
          <p:cNvGrpSpPr/>
          <p:nvPr/>
        </p:nvGrpSpPr>
        <p:grpSpPr>
          <a:xfrm>
            <a:off x="1116000" y="3787920"/>
            <a:ext cx="360360" cy="360360"/>
            <a:chOff x="1116000" y="3787920"/>
            <a:chExt cx="360360" cy="360360"/>
          </a:xfrm>
        </p:grpSpPr>
        <p:sp>
          <p:nvSpPr>
            <p:cNvPr id="343" name="Oval 8"/>
            <p:cNvSpPr/>
            <p:nvPr/>
          </p:nvSpPr>
          <p:spPr>
            <a:xfrm>
              <a:off x="1116000" y="37879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9"/>
            <p:cNvSpPr/>
            <p:nvPr/>
          </p:nvSpPr>
          <p:spPr>
            <a:xfrm rot="1623600">
              <a:off x="1175040" y="3832920"/>
              <a:ext cx="41760" cy="13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10"/>
          <p:cNvGrpSpPr/>
          <p:nvPr/>
        </p:nvGrpSpPr>
        <p:grpSpPr>
          <a:xfrm>
            <a:off x="1547640" y="3787920"/>
            <a:ext cx="360360" cy="360360"/>
            <a:chOff x="1547640" y="3787920"/>
            <a:chExt cx="360360" cy="360360"/>
          </a:xfrm>
        </p:grpSpPr>
        <p:sp>
          <p:nvSpPr>
            <p:cNvPr id="346" name="Oval 11"/>
            <p:cNvSpPr/>
            <p:nvPr/>
          </p:nvSpPr>
          <p:spPr>
            <a:xfrm>
              <a:off x="1547640" y="37879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12"/>
            <p:cNvSpPr/>
            <p:nvPr/>
          </p:nvSpPr>
          <p:spPr>
            <a:xfrm rot="1623600">
              <a:off x="1606680" y="3832920"/>
              <a:ext cx="41760" cy="13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13"/>
          <p:cNvGrpSpPr/>
          <p:nvPr/>
        </p:nvGrpSpPr>
        <p:grpSpPr>
          <a:xfrm>
            <a:off x="1978200" y="3787920"/>
            <a:ext cx="360360" cy="360360"/>
            <a:chOff x="1978200" y="3787920"/>
            <a:chExt cx="360360" cy="360360"/>
          </a:xfrm>
        </p:grpSpPr>
        <p:sp>
          <p:nvSpPr>
            <p:cNvPr id="349" name="Oval 14"/>
            <p:cNvSpPr/>
            <p:nvPr/>
          </p:nvSpPr>
          <p:spPr>
            <a:xfrm>
              <a:off x="1978200" y="37879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5"/>
            <p:cNvSpPr/>
            <p:nvPr/>
          </p:nvSpPr>
          <p:spPr>
            <a:xfrm rot="1623600">
              <a:off x="2037240" y="3832920"/>
              <a:ext cx="41760" cy="13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6"/>
          <p:cNvGrpSpPr/>
          <p:nvPr/>
        </p:nvGrpSpPr>
        <p:grpSpPr>
          <a:xfrm>
            <a:off x="2409840" y="3787920"/>
            <a:ext cx="360360" cy="360360"/>
            <a:chOff x="2409840" y="3787920"/>
            <a:chExt cx="360360" cy="360360"/>
          </a:xfrm>
        </p:grpSpPr>
        <p:sp>
          <p:nvSpPr>
            <p:cNvPr id="352" name="Oval 17"/>
            <p:cNvSpPr/>
            <p:nvPr/>
          </p:nvSpPr>
          <p:spPr>
            <a:xfrm>
              <a:off x="2409840" y="37879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18"/>
            <p:cNvSpPr/>
            <p:nvPr/>
          </p:nvSpPr>
          <p:spPr>
            <a:xfrm rot="1623600">
              <a:off x="2468880" y="3832920"/>
              <a:ext cx="41760" cy="13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19"/>
          <p:cNvGrpSpPr/>
          <p:nvPr/>
        </p:nvGrpSpPr>
        <p:grpSpPr>
          <a:xfrm>
            <a:off x="2843280" y="3787920"/>
            <a:ext cx="360360" cy="360360"/>
            <a:chOff x="2843280" y="3787920"/>
            <a:chExt cx="360360" cy="360360"/>
          </a:xfrm>
        </p:grpSpPr>
        <p:sp>
          <p:nvSpPr>
            <p:cNvPr id="355" name="Oval 20"/>
            <p:cNvSpPr/>
            <p:nvPr/>
          </p:nvSpPr>
          <p:spPr>
            <a:xfrm>
              <a:off x="2843280" y="37879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21"/>
            <p:cNvSpPr/>
            <p:nvPr/>
          </p:nvSpPr>
          <p:spPr>
            <a:xfrm rot="1623600">
              <a:off x="2902320" y="3832920"/>
              <a:ext cx="41760" cy="13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22"/>
          <p:cNvGrpSpPr/>
          <p:nvPr/>
        </p:nvGrpSpPr>
        <p:grpSpPr>
          <a:xfrm>
            <a:off x="3274920" y="3787920"/>
            <a:ext cx="360360" cy="360360"/>
            <a:chOff x="3274920" y="3787920"/>
            <a:chExt cx="360360" cy="360360"/>
          </a:xfrm>
        </p:grpSpPr>
        <p:sp>
          <p:nvSpPr>
            <p:cNvPr id="358" name="Oval 23"/>
            <p:cNvSpPr/>
            <p:nvPr/>
          </p:nvSpPr>
          <p:spPr>
            <a:xfrm>
              <a:off x="3274920" y="37879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24"/>
            <p:cNvSpPr/>
            <p:nvPr/>
          </p:nvSpPr>
          <p:spPr>
            <a:xfrm rot="1623600">
              <a:off x="3333960" y="3832920"/>
              <a:ext cx="41760" cy="13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25"/>
          <p:cNvGrpSpPr/>
          <p:nvPr/>
        </p:nvGrpSpPr>
        <p:grpSpPr>
          <a:xfrm>
            <a:off x="3706920" y="3789360"/>
            <a:ext cx="360360" cy="360360"/>
            <a:chOff x="3706920" y="3789360"/>
            <a:chExt cx="360360" cy="360360"/>
          </a:xfrm>
        </p:grpSpPr>
        <p:sp>
          <p:nvSpPr>
            <p:cNvPr id="361" name="Oval 26"/>
            <p:cNvSpPr/>
            <p:nvPr/>
          </p:nvSpPr>
          <p:spPr>
            <a:xfrm>
              <a:off x="3706920" y="37893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27"/>
            <p:cNvSpPr/>
            <p:nvPr/>
          </p:nvSpPr>
          <p:spPr>
            <a:xfrm rot="1623600">
              <a:off x="3765960" y="3834360"/>
              <a:ext cx="41760" cy="13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31"/>
          <p:cNvGrpSpPr/>
          <p:nvPr/>
        </p:nvGrpSpPr>
        <p:grpSpPr>
          <a:xfrm>
            <a:off x="5002200" y="3787920"/>
            <a:ext cx="360360" cy="360360"/>
            <a:chOff x="5002200" y="3787920"/>
            <a:chExt cx="360360" cy="360360"/>
          </a:xfrm>
        </p:grpSpPr>
        <p:sp>
          <p:nvSpPr>
            <p:cNvPr id="364" name="Oval 32"/>
            <p:cNvSpPr/>
            <p:nvPr/>
          </p:nvSpPr>
          <p:spPr>
            <a:xfrm>
              <a:off x="5002200" y="37879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33"/>
            <p:cNvSpPr/>
            <p:nvPr/>
          </p:nvSpPr>
          <p:spPr>
            <a:xfrm rot="1623600">
              <a:off x="5061240" y="3832920"/>
              <a:ext cx="41760" cy="13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34"/>
          <p:cNvGrpSpPr/>
          <p:nvPr/>
        </p:nvGrpSpPr>
        <p:grpSpPr>
          <a:xfrm>
            <a:off x="5435640" y="3787920"/>
            <a:ext cx="360360" cy="360360"/>
            <a:chOff x="5435640" y="3787920"/>
            <a:chExt cx="360360" cy="360360"/>
          </a:xfrm>
        </p:grpSpPr>
        <p:sp>
          <p:nvSpPr>
            <p:cNvPr id="367" name="Oval 35"/>
            <p:cNvSpPr/>
            <p:nvPr/>
          </p:nvSpPr>
          <p:spPr>
            <a:xfrm>
              <a:off x="5435640" y="37879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36"/>
            <p:cNvSpPr/>
            <p:nvPr/>
          </p:nvSpPr>
          <p:spPr>
            <a:xfrm rot="1623600">
              <a:off x="5494680" y="3832920"/>
              <a:ext cx="41760" cy="13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7"/>
          <p:cNvGrpSpPr/>
          <p:nvPr/>
        </p:nvGrpSpPr>
        <p:grpSpPr>
          <a:xfrm>
            <a:off x="5865840" y="3787920"/>
            <a:ext cx="360360" cy="360360"/>
            <a:chOff x="5865840" y="3787920"/>
            <a:chExt cx="360360" cy="360360"/>
          </a:xfrm>
        </p:grpSpPr>
        <p:sp>
          <p:nvSpPr>
            <p:cNvPr id="370" name="Oval 38"/>
            <p:cNvSpPr/>
            <p:nvPr/>
          </p:nvSpPr>
          <p:spPr>
            <a:xfrm>
              <a:off x="5865840" y="37879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9"/>
            <p:cNvSpPr/>
            <p:nvPr/>
          </p:nvSpPr>
          <p:spPr>
            <a:xfrm rot="1623600">
              <a:off x="5924880" y="3832920"/>
              <a:ext cx="41760" cy="13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40"/>
          <p:cNvGrpSpPr/>
          <p:nvPr/>
        </p:nvGrpSpPr>
        <p:grpSpPr>
          <a:xfrm>
            <a:off x="6299280" y="3787920"/>
            <a:ext cx="360360" cy="360360"/>
            <a:chOff x="6299280" y="3787920"/>
            <a:chExt cx="360360" cy="360360"/>
          </a:xfrm>
        </p:grpSpPr>
        <p:sp>
          <p:nvSpPr>
            <p:cNvPr id="373" name="Oval 41"/>
            <p:cNvSpPr/>
            <p:nvPr/>
          </p:nvSpPr>
          <p:spPr>
            <a:xfrm>
              <a:off x="6299280" y="37879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42"/>
            <p:cNvSpPr/>
            <p:nvPr/>
          </p:nvSpPr>
          <p:spPr>
            <a:xfrm rot="1623600">
              <a:off x="6358320" y="3832920"/>
              <a:ext cx="41760" cy="13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43"/>
          <p:cNvGrpSpPr/>
          <p:nvPr/>
        </p:nvGrpSpPr>
        <p:grpSpPr>
          <a:xfrm>
            <a:off x="6730920" y="3789360"/>
            <a:ext cx="360360" cy="360360"/>
            <a:chOff x="6730920" y="3789360"/>
            <a:chExt cx="360360" cy="360360"/>
          </a:xfrm>
        </p:grpSpPr>
        <p:sp>
          <p:nvSpPr>
            <p:cNvPr id="376" name="Oval 44"/>
            <p:cNvSpPr/>
            <p:nvPr/>
          </p:nvSpPr>
          <p:spPr>
            <a:xfrm>
              <a:off x="6730920" y="37893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45"/>
            <p:cNvSpPr/>
            <p:nvPr/>
          </p:nvSpPr>
          <p:spPr>
            <a:xfrm rot="1623600">
              <a:off x="6789960" y="3834360"/>
              <a:ext cx="41760" cy="13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46"/>
          <p:cNvGrpSpPr/>
          <p:nvPr/>
        </p:nvGrpSpPr>
        <p:grpSpPr>
          <a:xfrm>
            <a:off x="7162920" y="3787920"/>
            <a:ext cx="360360" cy="360360"/>
            <a:chOff x="7162920" y="3787920"/>
            <a:chExt cx="360360" cy="360360"/>
          </a:xfrm>
        </p:grpSpPr>
        <p:sp>
          <p:nvSpPr>
            <p:cNvPr id="379" name="Oval 47"/>
            <p:cNvSpPr/>
            <p:nvPr/>
          </p:nvSpPr>
          <p:spPr>
            <a:xfrm>
              <a:off x="7162920" y="37879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48"/>
            <p:cNvSpPr/>
            <p:nvPr/>
          </p:nvSpPr>
          <p:spPr>
            <a:xfrm rot="1623600">
              <a:off x="7221960" y="3832920"/>
              <a:ext cx="41760" cy="13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49"/>
          <p:cNvGrpSpPr/>
          <p:nvPr/>
        </p:nvGrpSpPr>
        <p:grpSpPr>
          <a:xfrm>
            <a:off x="8028000" y="3787920"/>
            <a:ext cx="360360" cy="360360"/>
            <a:chOff x="8028000" y="3787920"/>
            <a:chExt cx="360360" cy="360360"/>
          </a:xfrm>
        </p:grpSpPr>
        <p:sp>
          <p:nvSpPr>
            <p:cNvPr id="382" name="Oval 50"/>
            <p:cNvSpPr/>
            <p:nvPr/>
          </p:nvSpPr>
          <p:spPr>
            <a:xfrm>
              <a:off x="8028000" y="37879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51"/>
            <p:cNvSpPr/>
            <p:nvPr/>
          </p:nvSpPr>
          <p:spPr>
            <a:xfrm rot="1623600">
              <a:off x="8087040" y="3832920"/>
              <a:ext cx="41760" cy="13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58"/>
          <p:cNvGrpSpPr/>
          <p:nvPr/>
        </p:nvGrpSpPr>
        <p:grpSpPr>
          <a:xfrm>
            <a:off x="7596360" y="3787920"/>
            <a:ext cx="360360" cy="360360"/>
            <a:chOff x="7596360" y="3787920"/>
            <a:chExt cx="360360" cy="360360"/>
          </a:xfrm>
        </p:grpSpPr>
        <p:sp>
          <p:nvSpPr>
            <p:cNvPr id="385" name="Oval 59"/>
            <p:cNvSpPr/>
            <p:nvPr/>
          </p:nvSpPr>
          <p:spPr>
            <a:xfrm>
              <a:off x="7596360" y="37879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60"/>
            <p:cNvSpPr/>
            <p:nvPr/>
          </p:nvSpPr>
          <p:spPr>
            <a:xfrm rot="1623600">
              <a:off x="7655400" y="3832920"/>
              <a:ext cx="41760" cy="13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61"/>
          <p:cNvSpPr/>
          <p:nvPr/>
        </p:nvSpPr>
        <p:spPr>
          <a:xfrm>
            <a:off x="611280" y="4078440"/>
            <a:ext cx="358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方正黑体简体"/>
                <a:ea typeface="方正黑体简体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2"/>
          <p:cNvSpPr/>
          <p:nvPr/>
        </p:nvSpPr>
        <p:spPr>
          <a:xfrm>
            <a:off x="1044720" y="4076640"/>
            <a:ext cx="358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方正黑体简体"/>
                <a:ea typeface="方正黑体简体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3"/>
          <p:cNvSpPr/>
          <p:nvPr/>
        </p:nvSpPr>
        <p:spPr>
          <a:xfrm>
            <a:off x="1549440" y="4076640"/>
            <a:ext cx="358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方正黑体简体"/>
                <a:ea typeface="方正黑体简体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4"/>
          <p:cNvSpPr/>
          <p:nvPr/>
        </p:nvSpPr>
        <p:spPr>
          <a:xfrm>
            <a:off x="1979640" y="4076640"/>
            <a:ext cx="3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方正黑体简体"/>
                <a:ea typeface="方正黑体简体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5"/>
          <p:cNvSpPr/>
          <p:nvPr/>
        </p:nvSpPr>
        <p:spPr>
          <a:xfrm>
            <a:off x="2341440" y="4076640"/>
            <a:ext cx="3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方正黑体简体"/>
                <a:ea typeface="方正黑体简体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6"/>
          <p:cNvSpPr/>
          <p:nvPr/>
        </p:nvSpPr>
        <p:spPr>
          <a:xfrm>
            <a:off x="2843280" y="4076640"/>
            <a:ext cx="358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方正黑体简体"/>
                <a:ea typeface="方正黑体简体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7"/>
          <p:cNvSpPr/>
          <p:nvPr/>
        </p:nvSpPr>
        <p:spPr>
          <a:xfrm>
            <a:off x="3276720" y="4076640"/>
            <a:ext cx="358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方正黑体简体"/>
                <a:ea typeface="方正黑体简体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8"/>
          <p:cNvSpPr/>
          <p:nvPr/>
        </p:nvSpPr>
        <p:spPr>
          <a:xfrm>
            <a:off x="3708360" y="4076640"/>
            <a:ext cx="3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方正黑体简体"/>
                <a:ea typeface="方正黑体简体"/>
              </a:rPr>
              <a:t>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0"/>
          <p:cNvSpPr/>
          <p:nvPr/>
        </p:nvSpPr>
        <p:spPr>
          <a:xfrm>
            <a:off x="3635280" y="2922480"/>
            <a:ext cx="647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芳芳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1"/>
          <p:cNvSpPr/>
          <p:nvPr/>
        </p:nvSpPr>
        <p:spPr>
          <a:xfrm>
            <a:off x="8016840" y="4103640"/>
            <a:ext cx="3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方正黑体简体"/>
                <a:ea typeface="方正黑体简体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2"/>
          <p:cNvSpPr/>
          <p:nvPr/>
        </p:nvSpPr>
        <p:spPr>
          <a:xfrm>
            <a:off x="7567560" y="4103640"/>
            <a:ext cx="3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方正黑体简体"/>
                <a:ea typeface="方正黑体简体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73"/>
          <p:cNvSpPr/>
          <p:nvPr/>
        </p:nvSpPr>
        <p:spPr>
          <a:xfrm>
            <a:off x="7121520" y="4103640"/>
            <a:ext cx="35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方正黑体简体"/>
                <a:ea typeface="方正黑体简体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4"/>
          <p:cNvSpPr/>
          <p:nvPr/>
        </p:nvSpPr>
        <p:spPr>
          <a:xfrm>
            <a:off x="6689880" y="4103640"/>
            <a:ext cx="358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方正黑体简体"/>
                <a:ea typeface="方正黑体简体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5"/>
          <p:cNvSpPr/>
          <p:nvPr/>
        </p:nvSpPr>
        <p:spPr>
          <a:xfrm>
            <a:off x="6661080" y="2922480"/>
            <a:ext cx="647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兵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684360" y="3787920"/>
            <a:ext cx="360360" cy="360360"/>
            <a:chOff x="684360" y="3787920"/>
            <a:chExt cx="360360" cy="360360"/>
          </a:xfrm>
        </p:grpSpPr>
        <p:sp>
          <p:nvSpPr>
            <p:cNvPr id="402" name="Oval 8"/>
            <p:cNvSpPr/>
            <p:nvPr/>
          </p:nvSpPr>
          <p:spPr>
            <a:xfrm>
              <a:off x="684360" y="37879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9"/>
            <p:cNvSpPr/>
            <p:nvPr/>
          </p:nvSpPr>
          <p:spPr>
            <a:xfrm rot="1623600">
              <a:off x="743400" y="3832920"/>
              <a:ext cx="41760" cy="13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"/>
          <p:cNvGrpSpPr/>
          <p:nvPr/>
        </p:nvGrpSpPr>
        <p:grpSpPr>
          <a:xfrm>
            <a:off x="4140360" y="3787920"/>
            <a:ext cx="360360" cy="360360"/>
            <a:chOff x="4140360" y="3787920"/>
            <a:chExt cx="360360" cy="360360"/>
          </a:xfrm>
        </p:grpSpPr>
        <p:sp>
          <p:nvSpPr>
            <p:cNvPr id="405" name="Oval 4"/>
            <p:cNvSpPr/>
            <p:nvPr/>
          </p:nvSpPr>
          <p:spPr>
            <a:xfrm>
              <a:off x="4140360" y="37879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5"/>
            <p:cNvSpPr/>
            <p:nvPr/>
          </p:nvSpPr>
          <p:spPr>
            <a:xfrm rot="1623600">
              <a:off x="4199400" y="3832920"/>
              <a:ext cx="41760" cy="13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52"/>
          <p:cNvGrpSpPr/>
          <p:nvPr/>
        </p:nvGrpSpPr>
        <p:grpSpPr>
          <a:xfrm>
            <a:off x="6732720" y="3789360"/>
            <a:ext cx="360360" cy="360360"/>
            <a:chOff x="6732720" y="3789360"/>
            <a:chExt cx="360360" cy="360360"/>
          </a:xfrm>
        </p:grpSpPr>
        <p:sp>
          <p:nvSpPr>
            <p:cNvPr id="408" name="Oval 53"/>
            <p:cNvSpPr/>
            <p:nvPr/>
          </p:nvSpPr>
          <p:spPr>
            <a:xfrm>
              <a:off x="6732720" y="3789360"/>
              <a:ext cx="360360" cy="3603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54"/>
            <p:cNvSpPr/>
            <p:nvPr/>
          </p:nvSpPr>
          <p:spPr>
            <a:xfrm rot="1623600">
              <a:off x="6791760" y="3834360"/>
              <a:ext cx="41760" cy="13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55"/>
          <p:cNvGrpSpPr/>
          <p:nvPr/>
        </p:nvGrpSpPr>
        <p:grpSpPr>
          <a:xfrm>
            <a:off x="3708360" y="3789360"/>
            <a:ext cx="360360" cy="360360"/>
            <a:chOff x="3708360" y="3789360"/>
            <a:chExt cx="360360" cy="360360"/>
          </a:xfrm>
        </p:grpSpPr>
        <p:sp>
          <p:nvSpPr>
            <p:cNvPr id="411" name="Oval 56"/>
            <p:cNvSpPr/>
            <p:nvPr/>
          </p:nvSpPr>
          <p:spPr>
            <a:xfrm>
              <a:off x="3708360" y="3789360"/>
              <a:ext cx="360360" cy="360360"/>
            </a:xfrm>
            <a:prstGeom prst="ellipse">
              <a:avLst/>
            </a:prstGeom>
            <a:solidFill>
              <a:srgbClr val="009900"/>
            </a:soli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57"/>
            <p:cNvSpPr/>
            <p:nvPr/>
          </p:nvSpPr>
          <p:spPr>
            <a:xfrm rot="1623600">
              <a:off x="3767400" y="3834360"/>
              <a:ext cx="41760" cy="13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 txBox="1"/>
          <p:nvPr/>
        </p:nvSpPr>
        <p:spPr>
          <a:xfrm>
            <a:off x="395280" y="189000"/>
            <a:ext cx="1765440" cy="66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用策略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4" name=""/>
          <p:cNvSpPr/>
          <p:nvPr/>
        </p:nvSpPr>
        <p:spPr>
          <a:xfrm>
            <a:off x="2084400" y="4659480"/>
            <a:ext cx="18396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984920" y="5378400"/>
            <a:ext cx="18396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604360" y="6453360"/>
            <a:ext cx="215640" cy="144360"/>
          </a:xfrm>
          <a:custGeom>
            <a:avLst/>
            <a:gdLst>
              <a:gd name="textAreaLeft" fmla="*/ 50760 w 215640"/>
              <a:gd name="textAreaRight" fmla="*/ 164880 w 215640"/>
              <a:gd name="textAreaTop" fmla="*/ 16920 h 144360"/>
              <a:gd name="textAreaBottom" fmla="*/ 90720 h 144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195640" y="549360"/>
            <a:ext cx="287280" cy="2872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244000" y="549360"/>
            <a:ext cx="28872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763640" y="6021360"/>
            <a:ext cx="547236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芳芳和兵兵之间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078880" y="6021360"/>
            <a:ext cx="349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160960" y="3174840"/>
            <a:ext cx="605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22200" y="1990800"/>
            <a:ext cx="87105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       </a:t>
            </a:r>
            <a:r>
              <a:rPr b="0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（先在图中标出芳芳和兵兵的位置，再解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rcRect l="27847" t="23329" r="37613" b="30100"/>
          <a:stretch/>
        </p:blipFill>
        <p:spPr>
          <a:xfrm>
            <a:off x="684360" y="4581360"/>
            <a:ext cx="1231920" cy="13050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3"/>
          <a:stretch/>
        </p:blipFill>
        <p:spPr>
          <a:xfrm>
            <a:off x="6661080" y="4797360"/>
            <a:ext cx="1067040" cy="13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1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612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"/>
                            </p:stCondLst>
                            <p:childTnLst>
                              <p:par>
                                <p:cTn id="62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2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3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604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805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6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207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408"/>
                            </p:stCondLst>
                            <p:childTnLst>
                              <p:par>
                                <p:cTn id="6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409"/>
                            </p:stCondLst>
                            <p:childTnLst>
                              <p:par>
                                <p:cTn id="6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9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650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"/>
                            </p:stCondLst>
                            <p:childTnLst>
                              <p:par>
                                <p:cTn id="65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02"/>
                            </p:stCondLst>
                            <p:childTnLst>
                              <p:par>
                                <p:cTn id="65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03"/>
                            </p:stCondLst>
                            <p:childTnLst>
                              <p:par>
                                <p:cTn id="66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604"/>
                            </p:stCondLst>
                            <p:childTnLst>
                              <p:par>
                                <p:cTn id="6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605"/>
                            </p:stCondLst>
                            <p:childTnLst>
                              <p:par>
                                <p:cTn id="6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670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3"/>
          <p:cNvGrpSpPr/>
          <p:nvPr/>
        </p:nvGrpSpPr>
        <p:grpSpPr>
          <a:xfrm>
            <a:off x="4498920" y="1339920"/>
            <a:ext cx="360360" cy="361800"/>
            <a:chOff x="4498920" y="1339920"/>
            <a:chExt cx="360360" cy="361800"/>
          </a:xfrm>
        </p:grpSpPr>
        <p:sp>
          <p:nvSpPr>
            <p:cNvPr id="426" name="Oval 4"/>
            <p:cNvSpPr/>
            <p:nvPr/>
          </p:nvSpPr>
          <p:spPr>
            <a:xfrm>
              <a:off x="4498920" y="1339920"/>
              <a:ext cx="360360" cy="361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5"/>
            <p:cNvSpPr/>
            <p:nvPr/>
          </p:nvSpPr>
          <p:spPr>
            <a:xfrm rot="1623600">
              <a:off x="4558320" y="1384920"/>
              <a:ext cx="41760" cy="13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31"/>
          <p:cNvGrpSpPr/>
          <p:nvPr/>
        </p:nvGrpSpPr>
        <p:grpSpPr>
          <a:xfrm>
            <a:off x="4929120" y="1339920"/>
            <a:ext cx="360360" cy="361800"/>
            <a:chOff x="4929120" y="1339920"/>
            <a:chExt cx="360360" cy="361800"/>
          </a:xfrm>
        </p:grpSpPr>
        <p:sp>
          <p:nvSpPr>
            <p:cNvPr id="429" name="Oval 32"/>
            <p:cNvSpPr/>
            <p:nvPr/>
          </p:nvSpPr>
          <p:spPr>
            <a:xfrm>
              <a:off x="4929120" y="1339920"/>
              <a:ext cx="360360" cy="361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33"/>
            <p:cNvSpPr/>
            <p:nvPr/>
          </p:nvSpPr>
          <p:spPr>
            <a:xfrm rot="1623600">
              <a:off x="4988520" y="1384920"/>
              <a:ext cx="41760" cy="13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34"/>
          <p:cNvGrpSpPr/>
          <p:nvPr/>
        </p:nvGrpSpPr>
        <p:grpSpPr>
          <a:xfrm>
            <a:off x="5362560" y="1339920"/>
            <a:ext cx="360360" cy="361800"/>
            <a:chOff x="5362560" y="1339920"/>
            <a:chExt cx="360360" cy="361800"/>
          </a:xfrm>
        </p:grpSpPr>
        <p:sp>
          <p:nvSpPr>
            <p:cNvPr id="432" name="Oval 35"/>
            <p:cNvSpPr/>
            <p:nvPr/>
          </p:nvSpPr>
          <p:spPr>
            <a:xfrm>
              <a:off x="5362560" y="1339920"/>
              <a:ext cx="360360" cy="361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36"/>
            <p:cNvSpPr/>
            <p:nvPr/>
          </p:nvSpPr>
          <p:spPr>
            <a:xfrm rot="1623600">
              <a:off x="5421960" y="1384920"/>
              <a:ext cx="41760" cy="13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37"/>
          <p:cNvGrpSpPr/>
          <p:nvPr/>
        </p:nvGrpSpPr>
        <p:grpSpPr>
          <a:xfrm>
            <a:off x="5792760" y="1339920"/>
            <a:ext cx="360360" cy="361800"/>
            <a:chOff x="5792760" y="1339920"/>
            <a:chExt cx="360360" cy="361800"/>
          </a:xfrm>
        </p:grpSpPr>
        <p:sp>
          <p:nvSpPr>
            <p:cNvPr id="435" name="Oval 38"/>
            <p:cNvSpPr/>
            <p:nvPr/>
          </p:nvSpPr>
          <p:spPr>
            <a:xfrm>
              <a:off x="5792760" y="1339920"/>
              <a:ext cx="360360" cy="361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39"/>
            <p:cNvSpPr/>
            <p:nvPr/>
          </p:nvSpPr>
          <p:spPr>
            <a:xfrm rot="1623600">
              <a:off x="5852160" y="1384920"/>
              <a:ext cx="41760" cy="13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40"/>
          <p:cNvGrpSpPr/>
          <p:nvPr/>
        </p:nvGrpSpPr>
        <p:grpSpPr>
          <a:xfrm>
            <a:off x="6226200" y="1339920"/>
            <a:ext cx="360360" cy="361800"/>
            <a:chOff x="6226200" y="1339920"/>
            <a:chExt cx="360360" cy="361800"/>
          </a:xfrm>
        </p:grpSpPr>
        <p:sp>
          <p:nvSpPr>
            <p:cNvPr id="438" name="Oval 41"/>
            <p:cNvSpPr/>
            <p:nvPr/>
          </p:nvSpPr>
          <p:spPr>
            <a:xfrm>
              <a:off x="6226200" y="1339920"/>
              <a:ext cx="360360" cy="361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42"/>
            <p:cNvSpPr/>
            <p:nvPr/>
          </p:nvSpPr>
          <p:spPr>
            <a:xfrm rot="1623600">
              <a:off x="6285600" y="1384920"/>
              <a:ext cx="41760" cy="13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3"/>
          <p:cNvGrpSpPr/>
          <p:nvPr/>
        </p:nvGrpSpPr>
        <p:grpSpPr>
          <a:xfrm>
            <a:off x="4067280" y="1339920"/>
            <a:ext cx="360360" cy="361800"/>
            <a:chOff x="4067280" y="1339920"/>
            <a:chExt cx="360360" cy="361800"/>
          </a:xfrm>
        </p:grpSpPr>
        <p:sp>
          <p:nvSpPr>
            <p:cNvPr id="441" name="Oval 4"/>
            <p:cNvSpPr/>
            <p:nvPr/>
          </p:nvSpPr>
          <p:spPr>
            <a:xfrm>
              <a:off x="4067280" y="1339920"/>
              <a:ext cx="360360" cy="361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5"/>
            <p:cNvSpPr/>
            <p:nvPr/>
          </p:nvSpPr>
          <p:spPr>
            <a:xfrm rot="1623600">
              <a:off x="4126680" y="1384920"/>
              <a:ext cx="41760" cy="13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 txBox="1"/>
          <p:nvPr/>
        </p:nvSpPr>
        <p:spPr>
          <a:xfrm>
            <a:off x="395280" y="189000"/>
            <a:ext cx="1765440" cy="66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用策略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4" name=""/>
          <p:cNvSpPr/>
          <p:nvPr/>
        </p:nvSpPr>
        <p:spPr>
          <a:xfrm>
            <a:off x="2084400" y="4659480"/>
            <a:ext cx="183960" cy="36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84920" y="5378400"/>
            <a:ext cx="18396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604360" y="6453360"/>
            <a:ext cx="215640" cy="144360"/>
          </a:xfrm>
          <a:custGeom>
            <a:avLst/>
            <a:gdLst>
              <a:gd name="textAreaLeft" fmla="*/ 50760 w 215640"/>
              <a:gd name="textAreaRight" fmla="*/ 164880 w 215640"/>
              <a:gd name="textAreaTop" fmla="*/ 16920 h 144360"/>
              <a:gd name="textAreaBottom" fmla="*/ 90720 h 144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692360" y="5300640"/>
            <a:ext cx="287280" cy="28728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24000" y="5302080"/>
            <a:ext cx="21600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763640" y="5518080"/>
            <a:ext cx="547236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芳芳和兵兵之间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078880" y="5591160"/>
            <a:ext cx="349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rcRect l="27847" t="23329" r="37613" b="30100"/>
          <a:stretch/>
        </p:blipFill>
        <p:spPr>
          <a:xfrm>
            <a:off x="468360" y="4508640"/>
            <a:ext cx="1231920" cy="13046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661080" y="4797360"/>
            <a:ext cx="1067040" cy="13334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52280" y="3211560"/>
            <a:ext cx="26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7"/>
          <p:cNvGrpSpPr/>
          <p:nvPr/>
        </p:nvGrpSpPr>
        <p:grpSpPr>
          <a:xfrm>
            <a:off x="1042920" y="1339920"/>
            <a:ext cx="360360" cy="360360"/>
            <a:chOff x="1042920" y="1339920"/>
            <a:chExt cx="360360" cy="360360"/>
          </a:xfrm>
        </p:grpSpPr>
        <p:sp>
          <p:nvSpPr>
            <p:cNvPr id="455" name="Oval 8"/>
            <p:cNvSpPr/>
            <p:nvPr/>
          </p:nvSpPr>
          <p:spPr>
            <a:xfrm>
              <a:off x="1042920" y="13399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9"/>
            <p:cNvSpPr/>
            <p:nvPr/>
          </p:nvSpPr>
          <p:spPr>
            <a:xfrm rot="1623600">
              <a:off x="1101960" y="1384920"/>
              <a:ext cx="41760" cy="13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10"/>
          <p:cNvGrpSpPr/>
          <p:nvPr/>
        </p:nvGrpSpPr>
        <p:grpSpPr>
          <a:xfrm>
            <a:off x="1474920" y="1339920"/>
            <a:ext cx="360360" cy="360360"/>
            <a:chOff x="1474920" y="1339920"/>
            <a:chExt cx="360360" cy="360360"/>
          </a:xfrm>
        </p:grpSpPr>
        <p:sp>
          <p:nvSpPr>
            <p:cNvPr id="458" name="Oval 11"/>
            <p:cNvSpPr/>
            <p:nvPr/>
          </p:nvSpPr>
          <p:spPr>
            <a:xfrm>
              <a:off x="1474920" y="13399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2"/>
            <p:cNvSpPr/>
            <p:nvPr/>
          </p:nvSpPr>
          <p:spPr>
            <a:xfrm rot="1623600">
              <a:off x="1533960" y="1384920"/>
              <a:ext cx="41760" cy="13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13"/>
          <p:cNvGrpSpPr/>
          <p:nvPr/>
        </p:nvGrpSpPr>
        <p:grpSpPr>
          <a:xfrm>
            <a:off x="1905120" y="1339920"/>
            <a:ext cx="360360" cy="360360"/>
            <a:chOff x="1905120" y="1339920"/>
            <a:chExt cx="360360" cy="360360"/>
          </a:xfrm>
        </p:grpSpPr>
        <p:sp>
          <p:nvSpPr>
            <p:cNvPr id="461" name="Oval 14"/>
            <p:cNvSpPr/>
            <p:nvPr/>
          </p:nvSpPr>
          <p:spPr>
            <a:xfrm>
              <a:off x="1905120" y="13399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5"/>
            <p:cNvSpPr/>
            <p:nvPr/>
          </p:nvSpPr>
          <p:spPr>
            <a:xfrm rot="1623600">
              <a:off x="1964160" y="1384920"/>
              <a:ext cx="41760" cy="13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16"/>
          <p:cNvGrpSpPr/>
          <p:nvPr/>
        </p:nvGrpSpPr>
        <p:grpSpPr>
          <a:xfrm>
            <a:off x="2336760" y="1339920"/>
            <a:ext cx="360360" cy="360360"/>
            <a:chOff x="2336760" y="1339920"/>
            <a:chExt cx="360360" cy="360360"/>
          </a:xfrm>
        </p:grpSpPr>
        <p:sp>
          <p:nvSpPr>
            <p:cNvPr id="464" name="Oval 17"/>
            <p:cNvSpPr/>
            <p:nvPr/>
          </p:nvSpPr>
          <p:spPr>
            <a:xfrm>
              <a:off x="2336760" y="13399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8"/>
            <p:cNvSpPr/>
            <p:nvPr/>
          </p:nvSpPr>
          <p:spPr>
            <a:xfrm rot="1623600">
              <a:off x="2395800" y="1384920"/>
              <a:ext cx="41760" cy="13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9"/>
          <p:cNvGrpSpPr/>
          <p:nvPr/>
        </p:nvGrpSpPr>
        <p:grpSpPr>
          <a:xfrm>
            <a:off x="2770200" y="1339920"/>
            <a:ext cx="360360" cy="360360"/>
            <a:chOff x="2770200" y="1339920"/>
            <a:chExt cx="360360" cy="360360"/>
          </a:xfrm>
        </p:grpSpPr>
        <p:sp>
          <p:nvSpPr>
            <p:cNvPr id="467" name="Oval 20"/>
            <p:cNvSpPr/>
            <p:nvPr/>
          </p:nvSpPr>
          <p:spPr>
            <a:xfrm>
              <a:off x="2770200" y="13399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"/>
            <p:cNvSpPr/>
            <p:nvPr/>
          </p:nvSpPr>
          <p:spPr>
            <a:xfrm rot="1623600">
              <a:off x="2829240" y="1384920"/>
              <a:ext cx="41760" cy="13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22"/>
          <p:cNvGrpSpPr/>
          <p:nvPr/>
        </p:nvGrpSpPr>
        <p:grpSpPr>
          <a:xfrm>
            <a:off x="3201840" y="1339920"/>
            <a:ext cx="360360" cy="360360"/>
            <a:chOff x="3201840" y="1339920"/>
            <a:chExt cx="360360" cy="360360"/>
          </a:xfrm>
        </p:grpSpPr>
        <p:sp>
          <p:nvSpPr>
            <p:cNvPr id="470" name="Oval 23"/>
            <p:cNvSpPr/>
            <p:nvPr/>
          </p:nvSpPr>
          <p:spPr>
            <a:xfrm>
              <a:off x="3201840" y="13399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4"/>
            <p:cNvSpPr/>
            <p:nvPr/>
          </p:nvSpPr>
          <p:spPr>
            <a:xfrm rot="1623600">
              <a:off x="3260880" y="1384920"/>
              <a:ext cx="41760" cy="13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oup 7"/>
          <p:cNvGrpSpPr/>
          <p:nvPr/>
        </p:nvGrpSpPr>
        <p:grpSpPr>
          <a:xfrm>
            <a:off x="611280" y="1339920"/>
            <a:ext cx="360360" cy="360360"/>
            <a:chOff x="611280" y="1339920"/>
            <a:chExt cx="360360" cy="360360"/>
          </a:xfrm>
        </p:grpSpPr>
        <p:sp>
          <p:nvSpPr>
            <p:cNvPr id="473" name="Oval 8"/>
            <p:cNvSpPr/>
            <p:nvPr/>
          </p:nvSpPr>
          <p:spPr>
            <a:xfrm>
              <a:off x="611280" y="13399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9"/>
            <p:cNvSpPr/>
            <p:nvPr/>
          </p:nvSpPr>
          <p:spPr>
            <a:xfrm rot="1623600">
              <a:off x="670320" y="1384920"/>
              <a:ext cx="41760" cy="13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55"/>
          <p:cNvGrpSpPr/>
          <p:nvPr/>
        </p:nvGrpSpPr>
        <p:grpSpPr>
          <a:xfrm>
            <a:off x="3635280" y="1339920"/>
            <a:ext cx="360360" cy="358560"/>
            <a:chOff x="3635280" y="1339920"/>
            <a:chExt cx="360360" cy="358560"/>
          </a:xfrm>
        </p:grpSpPr>
        <p:sp>
          <p:nvSpPr>
            <p:cNvPr id="476" name="Oval 56"/>
            <p:cNvSpPr/>
            <p:nvPr/>
          </p:nvSpPr>
          <p:spPr>
            <a:xfrm>
              <a:off x="3635280" y="1339920"/>
              <a:ext cx="360360" cy="358560"/>
            </a:xfrm>
            <a:prstGeom prst="ellipse">
              <a:avLst/>
            </a:prstGeom>
            <a:solidFill>
              <a:srgbClr val="009900"/>
            </a:solidFill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57"/>
            <p:cNvSpPr/>
            <p:nvPr/>
          </p:nvSpPr>
          <p:spPr>
            <a:xfrm rot="1623600">
              <a:off x="3694320" y="1384560"/>
              <a:ext cx="41760" cy="132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1933560" y="22050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46"/>
          <p:cNvGrpSpPr/>
          <p:nvPr/>
        </p:nvGrpSpPr>
        <p:grpSpPr>
          <a:xfrm>
            <a:off x="7089840" y="1339920"/>
            <a:ext cx="360360" cy="361800"/>
            <a:chOff x="7089840" y="1339920"/>
            <a:chExt cx="360360" cy="361800"/>
          </a:xfrm>
        </p:grpSpPr>
        <p:sp>
          <p:nvSpPr>
            <p:cNvPr id="480" name="Oval 47"/>
            <p:cNvSpPr/>
            <p:nvPr/>
          </p:nvSpPr>
          <p:spPr>
            <a:xfrm>
              <a:off x="7089840" y="1339920"/>
              <a:ext cx="360360" cy="361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48"/>
            <p:cNvSpPr/>
            <p:nvPr/>
          </p:nvSpPr>
          <p:spPr>
            <a:xfrm rot="1623600">
              <a:off x="7149240" y="1384920"/>
              <a:ext cx="41760" cy="13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Group 49"/>
          <p:cNvGrpSpPr/>
          <p:nvPr/>
        </p:nvGrpSpPr>
        <p:grpSpPr>
          <a:xfrm>
            <a:off x="7954920" y="1339920"/>
            <a:ext cx="360360" cy="361800"/>
            <a:chOff x="7954920" y="1339920"/>
            <a:chExt cx="360360" cy="361800"/>
          </a:xfrm>
        </p:grpSpPr>
        <p:sp>
          <p:nvSpPr>
            <p:cNvPr id="483" name="Oval 50"/>
            <p:cNvSpPr/>
            <p:nvPr/>
          </p:nvSpPr>
          <p:spPr>
            <a:xfrm>
              <a:off x="7954920" y="1339920"/>
              <a:ext cx="360360" cy="361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51"/>
            <p:cNvSpPr/>
            <p:nvPr/>
          </p:nvSpPr>
          <p:spPr>
            <a:xfrm rot="1623600">
              <a:off x="8014320" y="1384920"/>
              <a:ext cx="41760" cy="13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58"/>
          <p:cNvGrpSpPr/>
          <p:nvPr/>
        </p:nvGrpSpPr>
        <p:grpSpPr>
          <a:xfrm>
            <a:off x="7523280" y="1339920"/>
            <a:ext cx="360360" cy="361800"/>
            <a:chOff x="7523280" y="1339920"/>
            <a:chExt cx="360360" cy="361800"/>
          </a:xfrm>
        </p:grpSpPr>
        <p:sp>
          <p:nvSpPr>
            <p:cNvPr id="486" name="Oval 59"/>
            <p:cNvSpPr/>
            <p:nvPr/>
          </p:nvSpPr>
          <p:spPr>
            <a:xfrm>
              <a:off x="7523280" y="1339920"/>
              <a:ext cx="360360" cy="361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60"/>
            <p:cNvSpPr/>
            <p:nvPr/>
          </p:nvSpPr>
          <p:spPr>
            <a:xfrm rot="1623600">
              <a:off x="7582680" y="1384920"/>
              <a:ext cx="41760" cy="13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52"/>
          <p:cNvGrpSpPr/>
          <p:nvPr/>
        </p:nvGrpSpPr>
        <p:grpSpPr>
          <a:xfrm>
            <a:off x="6659640" y="1341360"/>
            <a:ext cx="360360" cy="360360"/>
            <a:chOff x="6659640" y="1341360"/>
            <a:chExt cx="360360" cy="360360"/>
          </a:xfrm>
        </p:grpSpPr>
        <p:sp>
          <p:nvSpPr>
            <p:cNvPr id="489" name="Oval 53"/>
            <p:cNvSpPr/>
            <p:nvPr/>
          </p:nvSpPr>
          <p:spPr>
            <a:xfrm>
              <a:off x="6659640" y="1341360"/>
              <a:ext cx="360360" cy="3603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54"/>
            <p:cNvSpPr/>
            <p:nvPr/>
          </p:nvSpPr>
          <p:spPr>
            <a:xfrm rot="1623600">
              <a:off x="6718680" y="1386360"/>
              <a:ext cx="41760" cy="13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7189920" y="22050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064880" y="3859200"/>
            <a:ext cx="24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601960" y="32115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+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635440" y="3860640"/>
            <a:ext cx="24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8-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156360" y="5302080"/>
            <a:ext cx="287280" cy="28584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516720" y="5302080"/>
            <a:ext cx="21600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2232720" y="367560"/>
            <a:ext cx="144720" cy="2952720"/>
          </a:xfrm>
          <a:custGeom>
            <a:avLst/>
            <a:gdLst>
              <a:gd name="textAreaLeft" fmla="*/ 92520 w 144720"/>
              <a:gd name="textAreaRight" fmla="*/ 145080 w 1447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16200000">
            <a:off x="7489800" y="1231560"/>
            <a:ext cx="142920" cy="1368360"/>
          </a:xfrm>
          <a:custGeom>
            <a:avLst/>
            <a:gdLst>
              <a:gd name="textAreaLeft" fmla="*/ 91440 w 142920"/>
              <a:gd name="textAreaRight" fmla="*/ 1432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5400000">
            <a:off x="4390560" y="-2511360"/>
            <a:ext cx="144360" cy="7272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89360 h 7272360"/>
              <a:gd name="textAreaBottom" fmla="*/ 7083000 h 727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166280" y="4762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18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5" dur="indefinite" restart="never" nodeType="tmRoot">
          <p:childTnLst>
            <p:seq>
              <p:cTn id="676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677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683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689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4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695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95280" y="333360"/>
            <a:ext cx="1765440" cy="66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挑战自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502" name="Group 5"/>
          <p:cNvGrpSpPr/>
          <p:nvPr/>
        </p:nvGrpSpPr>
        <p:grpSpPr>
          <a:xfrm>
            <a:off x="289080" y="3359160"/>
            <a:ext cx="8676720" cy="1368360"/>
            <a:chOff x="289080" y="3359160"/>
            <a:chExt cx="8676720" cy="1368360"/>
          </a:xfrm>
        </p:grpSpPr>
        <p:pic>
          <p:nvPicPr>
            <p:cNvPr id="503" name="Picture 6" descr=""/>
            <p:cNvPicPr/>
            <p:nvPr/>
          </p:nvPicPr>
          <p:blipFill>
            <a:blip r:embed="rId2"/>
            <a:srcRect l="7232" t="86748" r="6459" b="4228"/>
            <a:stretch/>
          </p:blipFill>
          <p:spPr>
            <a:xfrm>
              <a:off x="289080" y="3359160"/>
              <a:ext cx="86767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Rectangle 7"/>
            <p:cNvSpPr/>
            <p:nvPr/>
          </p:nvSpPr>
          <p:spPr>
            <a:xfrm>
              <a:off x="490680" y="3503520"/>
              <a:ext cx="57456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Rectangle 8"/>
          <p:cNvSpPr/>
          <p:nvPr/>
        </p:nvSpPr>
        <p:spPr>
          <a:xfrm>
            <a:off x="181080" y="1341360"/>
            <a:ext cx="5686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en-US" sz="30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正方形里画了</a:t>
            </a:r>
            <a:r>
              <a:rPr b="0" lang="en-US" sz="3000" spc="-1" strike="noStrike">
                <a:solidFill>
                  <a:srgbClr val="ff0066"/>
                </a:solidFill>
                <a:latin typeface="方正黑体简体"/>
                <a:ea typeface="方正黑体简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圈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9"/>
          <p:cNvSpPr/>
          <p:nvPr/>
        </p:nvSpPr>
        <p:spPr>
          <a:xfrm>
            <a:off x="1521000" y="3500280"/>
            <a:ext cx="196560" cy="198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0"/>
          <p:cNvSpPr/>
          <p:nvPr/>
        </p:nvSpPr>
        <p:spPr>
          <a:xfrm>
            <a:off x="1778040" y="3514680"/>
            <a:ext cx="20016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11"/>
          <p:cNvSpPr/>
          <p:nvPr/>
        </p:nvSpPr>
        <p:spPr>
          <a:xfrm>
            <a:off x="2041560" y="3514680"/>
            <a:ext cx="20016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2"/>
          <p:cNvSpPr/>
          <p:nvPr/>
        </p:nvSpPr>
        <p:spPr>
          <a:xfrm>
            <a:off x="2301840" y="3514680"/>
            <a:ext cx="19692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3"/>
          <p:cNvSpPr/>
          <p:nvPr/>
        </p:nvSpPr>
        <p:spPr>
          <a:xfrm>
            <a:off x="2816280" y="3529080"/>
            <a:ext cx="19980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14"/>
          <p:cNvSpPr/>
          <p:nvPr/>
        </p:nvSpPr>
        <p:spPr>
          <a:xfrm>
            <a:off x="3079800" y="3529080"/>
            <a:ext cx="19980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5"/>
          <p:cNvSpPr/>
          <p:nvPr/>
        </p:nvSpPr>
        <p:spPr>
          <a:xfrm>
            <a:off x="3340080" y="3529080"/>
            <a:ext cx="19692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6"/>
          <p:cNvSpPr/>
          <p:nvPr/>
        </p:nvSpPr>
        <p:spPr>
          <a:xfrm>
            <a:off x="2575080" y="3529080"/>
            <a:ext cx="19980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7"/>
          <p:cNvSpPr/>
          <p:nvPr/>
        </p:nvSpPr>
        <p:spPr>
          <a:xfrm>
            <a:off x="2800440" y="3776760"/>
            <a:ext cx="19692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18"/>
          <p:cNvSpPr/>
          <p:nvPr/>
        </p:nvSpPr>
        <p:spPr>
          <a:xfrm>
            <a:off x="3063960" y="3776760"/>
            <a:ext cx="19692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9"/>
          <p:cNvSpPr/>
          <p:nvPr/>
        </p:nvSpPr>
        <p:spPr>
          <a:xfrm>
            <a:off x="3321000" y="3776760"/>
            <a:ext cx="20016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20"/>
          <p:cNvSpPr/>
          <p:nvPr/>
        </p:nvSpPr>
        <p:spPr>
          <a:xfrm>
            <a:off x="2558880" y="3776760"/>
            <a:ext cx="19692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21"/>
          <p:cNvSpPr/>
          <p:nvPr/>
        </p:nvSpPr>
        <p:spPr>
          <a:xfrm>
            <a:off x="3882960" y="3543480"/>
            <a:ext cx="19692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22"/>
          <p:cNvSpPr/>
          <p:nvPr/>
        </p:nvSpPr>
        <p:spPr>
          <a:xfrm>
            <a:off x="4146480" y="3543480"/>
            <a:ext cx="19692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23"/>
          <p:cNvSpPr/>
          <p:nvPr/>
        </p:nvSpPr>
        <p:spPr>
          <a:xfrm>
            <a:off x="4403880" y="3543480"/>
            <a:ext cx="19980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24"/>
          <p:cNvSpPr/>
          <p:nvPr/>
        </p:nvSpPr>
        <p:spPr>
          <a:xfrm>
            <a:off x="3641760" y="3543480"/>
            <a:ext cx="19692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25"/>
          <p:cNvSpPr/>
          <p:nvPr/>
        </p:nvSpPr>
        <p:spPr>
          <a:xfrm>
            <a:off x="3863880" y="3790800"/>
            <a:ext cx="200160" cy="198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26"/>
          <p:cNvSpPr/>
          <p:nvPr/>
        </p:nvSpPr>
        <p:spPr>
          <a:xfrm>
            <a:off x="4127400" y="3790800"/>
            <a:ext cx="200160" cy="198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27"/>
          <p:cNvSpPr/>
          <p:nvPr/>
        </p:nvSpPr>
        <p:spPr>
          <a:xfrm>
            <a:off x="4375080" y="3790800"/>
            <a:ext cx="196920" cy="198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28"/>
          <p:cNvSpPr/>
          <p:nvPr/>
        </p:nvSpPr>
        <p:spPr>
          <a:xfrm>
            <a:off x="3622680" y="3790800"/>
            <a:ext cx="200160" cy="198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29"/>
          <p:cNvSpPr/>
          <p:nvPr/>
        </p:nvSpPr>
        <p:spPr>
          <a:xfrm>
            <a:off x="3854520" y="4032360"/>
            <a:ext cx="19692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30"/>
          <p:cNvSpPr/>
          <p:nvPr/>
        </p:nvSpPr>
        <p:spPr>
          <a:xfrm>
            <a:off x="4118040" y="4032360"/>
            <a:ext cx="19692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31"/>
          <p:cNvSpPr/>
          <p:nvPr/>
        </p:nvSpPr>
        <p:spPr>
          <a:xfrm>
            <a:off x="4375080" y="4032360"/>
            <a:ext cx="20016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val 32"/>
          <p:cNvSpPr/>
          <p:nvPr/>
        </p:nvSpPr>
        <p:spPr>
          <a:xfrm>
            <a:off x="3613320" y="4032360"/>
            <a:ext cx="19656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33"/>
          <p:cNvSpPr/>
          <p:nvPr/>
        </p:nvSpPr>
        <p:spPr>
          <a:xfrm>
            <a:off x="3835440" y="4280040"/>
            <a:ext cx="20016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val 34"/>
          <p:cNvSpPr/>
          <p:nvPr/>
        </p:nvSpPr>
        <p:spPr>
          <a:xfrm>
            <a:off x="4098960" y="4280040"/>
            <a:ext cx="20016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35"/>
          <p:cNvSpPr/>
          <p:nvPr/>
        </p:nvSpPr>
        <p:spPr>
          <a:xfrm>
            <a:off x="4375080" y="4280040"/>
            <a:ext cx="19692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36"/>
          <p:cNvSpPr/>
          <p:nvPr/>
        </p:nvSpPr>
        <p:spPr>
          <a:xfrm>
            <a:off x="3594240" y="4280040"/>
            <a:ext cx="19980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37"/>
          <p:cNvSpPr/>
          <p:nvPr/>
        </p:nvSpPr>
        <p:spPr>
          <a:xfrm>
            <a:off x="511200" y="3529080"/>
            <a:ext cx="20016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38"/>
          <p:cNvSpPr/>
          <p:nvPr/>
        </p:nvSpPr>
        <p:spPr>
          <a:xfrm>
            <a:off x="774720" y="3529080"/>
            <a:ext cx="20016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9"/>
          <p:cNvSpPr/>
          <p:nvPr/>
        </p:nvSpPr>
        <p:spPr>
          <a:xfrm>
            <a:off x="539640" y="5400720"/>
            <a:ext cx="669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从第  个正方形开始就画不下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0"/>
          <p:cNvSpPr/>
          <p:nvPr/>
        </p:nvSpPr>
        <p:spPr>
          <a:xfrm>
            <a:off x="2216160" y="5400720"/>
            <a:ext cx="41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41"/>
          <p:cNvSpPr/>
          <p:nvPr/>
        </p:nvSpPr>
        <p:spPr>
          <a:xfrm>
            <a:off x="2124000" y="5878440"/>
            <a:ext cx="50796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42"/>
          <p:cNvSpPr/>
          <p:nvPr/>
        </p:nvSpPr>
        <p:spPr>
          <a:xfrm flipV="1">
            <a:off x="4645080" y="3503520"/>
            <a:ext cx="1022400" cy="100800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cc33"/>
                </a:solidFill>
                <a:latin typeface="Arial"/>
                <a:ea typeface="黑体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43"/>
          <p:cNvSpPr/>
          <p:nvPr/>
        </p:nvSpPr>
        <p:spPr>
          <a:xfrm flipV="1">
            <a:off x="469800" y="3503520"/>
            <a:ext cx="1019160" cy="1006560"/>
          </a:xfrm>
          <a:prstGeom prst="roundRect">
            <a:avLst>
              <a:gd name="adj" fmla="val 331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44"/>
          <p:cNvSpPr/>
          <p:nvPr/>
        </p:nvSpPr>
        <p:spPr>
          <a:xfrm flipV="1">
            <a:off x="1533600" y="3503520"/>
            <a:ext cx="1022400" cy="100656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45"/>
          <p:cNvSpPr/>
          <p:nvPr/>
        </p:nvSpPr>
        <p:spPr>
          <a:xfrm flipV="1">
            <a:off x="2556000" y="3502080"/>
            <a:ext cx="1022400" cy="1006560"/>
          </a:xfrm>
          <a:prstGeom prst="roundRect">
            <a:avLst>
              <a:gd name="adj" fmla="val 0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46"/>
          <p:cNvSpPr/>
          <p:nvPr/>
        </p:nvSpPr>
        <p:spPr>
          <a:xfrm flipV="1">
            <a:off x="3594240" y="3517920"/>
            <a:ext cx="1022040" cy="1006560"/>
          </a:xfrm>
          <a:prstGeom prst="roundRect">
            <a:avLst>
              <a:gd name="adj" fmla="val 47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81080" y="1413000"/>
            <a:ext cx="9144000" cy="146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</a:t>
            </a:r>
            <a:r>
              <a:rPr b="1" lang="zh-CN" sz="3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以后每个正方形里画圈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个数都是它前一个正方形的</a:t>
            </a:r>
            <a:r>
              <a:rPr b="1" lang="en-US" sz="3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倍，并且都和第一个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方形里的圈同样大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81080" y="2349360"/>
            <a:ext cx="921708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估计从第几个正方形开始就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下了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21"/>
          <p:cNvSpPr/>
          <p:nvPr/>
        </p:nvSpPr>
        <p:spPr>
          <a:xfrm>
            <a:off x="4930920" y="3575160"/>
            <a:ext cx="19980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22"/>
          <p:cNvSpPr/>
          <p:nvPr/>
        </p:nvSpPr>
        <p:spPr>
          <a:xfrm>
            <a:off x="5194440" y="3575160"/>
            <a:ext cx="19980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23"/>
          <p:cNvSpPr/>
          <p:nvPr/>
        </p:nvSpPr>
        <p:spPr>
          <a:xfrm>
            <a:off x="5454720" y="3575160"/>
            <a:ext cx="19692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24"/>
          <p:cNvSpPr/>
          <p:nvPr/>
        </p:nvSpPr>
        <p:spPr>
          <a:xfrm>
            <a:off x="4689360" y="3575160"/>
            <a:ext cx="20016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25"/>
          <p:cNvSpPr/>
          <p:nvPr/>
        </p:nvSpPr>
        <p:spPr>
          <a:xfrm>
            <a:off x="4915080" y="3822840"/>
            <a:ext cx="19656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26"/>
          <p:cNvSpPr/>
          <p:nvPr/>
        </p:nvSpPr>
        <p:spPr>
          <a:xfrm>
            <a:off x="5178600" y="3822840"/>
            <a:ext cx="19656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27"/>
          <p:cNvSpPr/>
          <p:nvPr/>
        </p:nvSpPr>
        <p:spPr>
          <a:xfrm>
            <a:off x="5423040" y="3822840"/>
            <a:ext cx="19980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28"/>
          <p:cNvSpPr/>
          <p:nvPr/>
        </p:nvSpPr>
        <p:spPr>
          <a:xfrm>
            <a:off x="4673520" y="3822840"/>
            <a:ext cx="19692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29"/>
          <p:cNvSpPr/>
          <p:nvPr/>
        </p:nvSpPr>
        <p:spPr>
          <a:xfrm>
            <a:off x="4902120" y="4064040"/>
            <a:ext cx="20016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30"/>
          <p:cNvSpPr/>
          <p:nvPr/>
        </p:nvSpPr>
        <p:spPr>
          <a:xfrm>
            <a:off x="5165640" y="4064040"/>
            <a:ext cx="20016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31"/>
          <p:cNvSpPr/>
          <p:nvPr/>
        </p:nvSpPr>
        <p:spPr>
          <a:xfrm>
            <a:off x="5425920" y="4064040"/>
            <a:ext cx="19692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32"/>
          <p:cNvSpPr/>
          <p:nvPr/>
        </p:nvSpPr>
        <p:spPr>
          <a:xfrm>
            <a:off x="4660920" y="4064040"/>
            <a:ext cx="20016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33"/>
          <p:cNvSpPr/>
          <p:nvPr/>
        </p:nvSpPr>
        <p:spPr>
          <a:xfrm>
            <a:off x="4886280" y="4311720"/>
            <a:ext cx="19692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34"/>
          <p:cNvSpPr/>
          <p:nvPr/>
        </p:nvSpPr>
        <p:spPr>
          <a:xfrm>
            <a:off x="5149800" y="4311720"/>
            <a:ext cx="19692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35"/>
          <p:cNvSpPr/>
          <p:nvPr/>
        </p:nvSpPr>
        <p:spPr>
          <a:xfrm>
            <a:off x="5423040" y="4311720"/>
            <a:ext cx="19980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36"/>
          <p:cNvSpPr/>
          <p:nvPr/>
        </p:nvSpPr>
        <p:spPr>
          <a:xfrm>
            <a:off x="4645080" y="4311720"/>
            <a:ext cx="19692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21"/>
          <p:cNvSpPr/>
          <p:nvPr/>
        </p:nvSpPr>
        <p:spPr>
          <a:xfrm>
            <a:off x="4930920" y="4511520"/>
            <a:ext cx="199800" cy="198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2"/>
          <p:cNvSpPr/>
          <p:nvPr/>
        </p:nvSpPr>
        <p:spPr>
          <a:xfrm>
            <a:off x="5194440" y="4511520"/>
            <a:ext cx="199800" cy="198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3"/>
          <p:cNvSpPr/>
          <p:nvPr/>
        </p:nvSpPr>
        <p:spPr>
          <a:xfrm>
            <a:off x="5454720" y="4511520"/>
            <a:ext cx="196920" cy="198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24"/>
          <p:cNvSpPr/>
          <p:nvPr/>
        </p:nvSpPr>
        <p:spPr>
          <a:xfrm>
            <a:off x="4689360" y="4511520"/>
            <a:ext cx="200160" cy="198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25"/>
          <p:cNvSpPr/>
          <p:nvPr/>
        </p:nvSpPr>
        <p:spPr>
          <a:xfrm>
            <a:off x="4915080" y="4759200"/>
            <a:ext cx="196560" cy="198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26"/>
          <p:cNvSpPr/>
          <p:nvPr/>
        </p:nvSpPr>
        <p:spPr>
          <a:xfrm>
            <a:off x="5178600" y="4759200"/>
            <a:ext cx="196560" cy="198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27"/>
          <p:cNvSpPr/>
          <p:nvPr/>
        </p:nvSpPr>
        <p:spPr>
          <a:xfrm>
            <a:off x="5423040" y="4759200"/>
            <a:ext cx="199800" cy="198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28"/>
          <p:cNvSpPr/>
          <p:nvPr/>
        </p:nvSpPr>
        <p:spPr>
          <a:xfrm>
            <a:off x="4673520" y="4759200"/>
            <a:ext cx="196920" cy="198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29"/>
          <p:cNvSpPr/>
          <p:nvPr/>
        </p:nvSpPr>
        <p:spPr>
          <a:xfrm>
            <a:off x="4902120" y="5000760"/>
            <a:ext cx="20016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30"/>
          <p:cNvSpPr/>
          <p:nvPr/>
        </p:nvSpPr>
        <p:spPr>
          <a:xfrm>
            <a:off x="5165640" y="5000760"/>
            <a:ext cx="20016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31"/>
          <p:cNvSpPr/>
          <p:nvPr/>
        </p:nvSpPr>
        <p:spPr>
          <a:xfrm>
            <a:off x="5425920" y="5000760"/>
            <a:ext cx="19692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32"/>
          <p:cNvSpPr/>
          <p:nvPr/>
        </p:nvSpPr>
        <p:spPr>
          <a:xfrm>
            <a:off x="4660920" y="5000760"/>
            <a:ext cx="20016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33"/>
          <p:cNvSpPr/>
          <p:nvPr/>
        </p:nvSpPr>
        <p:spPr>
          <a:xfrm>
            <a:off x="4886280" y="5248440"/>
            <a:ext cx="19692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34"/>
          <p:cNvSpPr/>
          <p:nvPr/>
        </p:nvSpPr>
        <p:spPr>
          <a:xfrm>
            <a:off x="5149800" y="5248440"/>
            <a:ext cx="19692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35"/>
          <p:cNvSpPr/>
          <p:nvPr/>
        </p:nvSpPr>
        <p:spPr>
          <a:xfrm>
            <a:off x="5423040" y="5248440"/>
            <a:ext cx="19980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36"/>
          <p:cNvSpPr/>
          <p:nvPr/>
        </p:nvSpPr>
        <p:spPr>
          <a:xfrm>
            <a:off x="4645080" y="5248440"/>
            <a:ext cx="196920" cy="198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ff"/>
            </a:solidFill>
            <a:miter/>
          </a:ln>
          <a:effectLst>
            <a:outerShdw dist="17819" dir="2700000" blurRad="0" rotWithShape="0">
              <a:srgbClr val="99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09640" y="3070080"/>
            <a:ext cx="450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816200" y="3070080"/>
            <a:ext cx="453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95480" y="3070080"/>
            <a:ext cx="454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975120" y="3070080"/>
            <a:ext cx="453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84920" y="3070080"/>
            <a:ext cx="450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"/>
                            </p:stCondLst>
                            <p:childTnLst>
                              <p:par>
                                <p:cTn id="7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"/>
                            </p:stCondLst>
                            <p:childTnLst>
                              <p:par>
                                <p:cTn id="8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"/>
                            </p:stCondLst>
                            <p:childTnLst>
                              <p:par>
                                <p:cTn id="8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4413240" y="966960"/>
            <a:ext cx="4406760" cy="440676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3348000" y="5373720"/>
            <a:ext cx="5184720" cy="1295280"/>
          </a:xfrm>
          <a:prstGeom prst="cloudCallout">
            <a:avLst>
              <a:gd name="adj1" fmla="val 57101"/>
              <a:gd name="adj2" fmla="val 68013"/>
            </a:avLst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851280" y="5518080"/>
            <a:ext cx="4321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00"/>
                </a:solidFill>
                <a:latin typeface="Arial"/>
              </a:rPr>
              <a:t>小朋友，请你试着从第一格起往下算，看每格需要放多少麦粒，看看每次数字的变化会不会让你吃惊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254160" y="263520"/>
            <a:ext cx="417816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趣味题：棋盘放麦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3"/>
          <a:stretch/>
        </p:blipFill>
        <p:spPr>
          <a:xfrm>
            <a:off x="250920" y="1989000"/>
            <a:ext cx="355284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9" descr="未命名-6eee"/>
          <p:cNvPicPr/>
          <p:nvPr/>
        </p:nvPicPr>
        <p:blipFill>
          <a:blip r:embed="rId3"/>
          <a:srcRect l="0" t="0" r="3999" b="0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未命名-6eee"/>
          <p:cNvPicPr/>
          <p:nvPr/>
        </p:nvPicPr>
        <p:blipFill>
          <a:blip r:embed="rId4"/>
          <a:srcRect l="0" t="0" r="3999" b="0"/>
          <a:stretch/>
        </p:blipFill>
        <p:spPr>
          <a:xfrm>
            <a:off x="0" y="0"/>
            <a:ext cx="9144000" cy="1514520"/>
          </a:xfrm>
          <a:prstGeom prst="rect">
            <a:avLst/>
          </a:prstGeom>
          <a:ln w="0">
            <a:noFill/>
          </a:ln>
        </p:spPr>
      </p:pic>
      <p:pic>
        <p:nvPicPr>
          <p:cNvPr id="133" name="Host Control 391" descr=""/>
          <p:cNvPicPr/>
          <p:nvPr/>
        </p:nvPicPr>
        <p:blipFill>
          <a:blip r:embed="rId5"/>
          <a:stretch/>
        </p:blipFill>
        <p:spPr>
          <a:xfrm>
            <a:off x="1044720" y="981000"/>
            <a:ext cx="698472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11"/>
          <p:cNvPicPr/>
          <p:nvPr/>
        </p:nvPicPr>
        <p:blipFill>
          <a:blip r:embed="rId2"/>
          <a:stretch/>
        </p:blipFill>
        <p:spPr>
          <a:xfrm>
            <a:off x="0" y="2421000"/>
            <a:ext cx="9198000" cy="3744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9" descr="未命名-6eee"/>
          <p:cNvPicPr/>
          <p:nvPr/>
        </p:nvPicPr>
        <p:blipFill>
          <a:blip r:embed="rId3"/>
          <a:srcRect l="0" t="0" r="3999" b="0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108000" y="333360"/>
            <a:ext cx="903600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小猴帮妈妈摘桃，第一天摘了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30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个，以后每天都比前一天多摘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个。小猴第三天摘了多少个？第五天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9" descr="未命名-6eee"/>
          <p:cNvPicPr/>
          <p:nvPr/>
        </p:nvPicPr>
        <p:blipFill>
          <a:blip r:embed="rId2"/>
          <a:srcRect l="0" t="0" r="3999" b="0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25"/>
          <p:cNvSpPr/>
          <p:nvPr/>
        </p:nvSpPr>
        <p:spPr>
          <a:xfrm>
            <a:off x="1114560" y="3282840"/>
            <a:ext cx="288720" cy="289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6"/>
          <p:cNvSpPr/>
          <p:nvPr/>
        </p:nvSpPr>
        <p:spPr>
          <a:xfrm>
            <a:off x="2556000" y="3282840"/>
            <a:ext cx="288720" cy="289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3997440" y="3282840"/>
            <a:ext cx="285480" cy="289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8"/>
          <p:cNvSpPr/>
          <p:nvPr/>
        </p:nvSpPr>
        <p:spPr>
          <a:xfrm>
            <a:off x="5435640" y="3282840"/>
            <a:ext cx="288720" cy="289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9"/>
          <p:cNvSpPr/>
          <p:nvPr/>
        </p:nvSpPr>
        <p:spPr>
          <a:xfrm>
            <a:off x="6877080" y="3282840"/>
            <a:ext cx="288720" cy="289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箭头 169"/>
          <p:cNvSpPr/>
          <p:nvPr/>
        </p:nvSpPr>
        <p:spPr>
          <a:xfrm>
            <a:off x="1403280" y="342900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箭头 169"/>
          <p:cNvSpPr/>
          <p:nvPr/>
        </p:nvSpPr>
        <p:spPr>
          <a:xfrm>
            <a:off x="2844720" y="3429000"/>
            <a:ext cx="114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箭头 169"/>
          <p:cNvSpPr/>
          <p:nvPr/>
        </p:nvSpPr>
        <p:spPr>
          <a:xfrm>
            <a:off x="4282920" y="342900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箭头 169"/>
          <p:cNvSpPr/>
          <p:nvPr/>
        </p:nvSpPr>
        <p:spPr>
          <a:xfrm>
            <a:off x="5724360" y="3429000"/>
            <a:ext cx="115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4"/>
          <p:cNvSpPr/>
          <p:nvPr/>
        </p:nvSpPr>
        <p:spPr>
          <a:xfrm>
            <a:off x="828720" y="2851200"/>
            <a:ext cx="107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第一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5"/>
          <p:cNvSpPr/>
          <p:nvPr/>
        </p:nvSpPr>
        <p:spPr>
          <a:xfrm>
            <a:off x="2197080" y="2851200"/>
            <a:ext cx="107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第二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6"/>
          <p:cNvSpPr/>
          <p:nvPr/>
        </p:nvSpPr>
        <p:spPr>
          <a:xfrm>
            <a:off x="3635280" y="2851200"/>
            <a:ext cx="107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第三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7"/>
          <p:cNvSpPr/>
          <p:nvPr/>
        </p:nvSpPr>
        <p:spPr>
          <a:xfrm>
            <a:off x="5076720" y="2851200"/>
            <a:ext cx="107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第四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8"/>
          <p:cNvSpPr/>
          <p:nvPr/>
        </p:nvSpPr>
        <p:spPr>
          <a:xfrm>
            <a:off x="6515280" y="2851200"/>
            <a:ext cx="107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第五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9"/>
          <p:cNvSpPr/>
          <p:nvPr/>
        </p:nvSpPr>
        <p:spPr>
          <a:xfrm>
            <a:off x="7162920" y="3139920"/>
            <a:ext cx="91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0"/>
          <p:cNvSpPr/>
          <p:nvPr/>
        </p:nvSpPr>
        <p:spPr>
          <a:xfrm>
            <a:off x="1619280" y="342900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多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1"/>
          <p:cNvSpPr/>
          <p:nvPr/>
        </p:nvSpPr>
        <p:spPr>
          <a:xfrm>
            <a:off x="2914560" y="3429000"/>
            <a:ext cx="11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多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2"/>
          <p:cNvSpPr/>
          <p:nvPr/>
        </p:nvSpPr>
        <p:spPr>
          <a:xfrm>
            <a:off x="4427640" y="342900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多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3"/>
          <p:cNvSpPr/>
          <p:nvPr/>
        </p:nvSpPr>
        <p:spPr>
          <a:xfrm>
            <a:off x="5867280" y="3429000"/>
            <a:ext cx="11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多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08000" y="333360"/>
            <a:ext cx="903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小猴帮妈妈摘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782880" y="339840"/>
            <a:ext cx="4176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第一天摘了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30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0" y="770040"/>
            <a:ext cx="90360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小猴第三天摘了多少个？第五天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08000" y="406440"/>
            <a:ext cx="9036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以后每天都比前一天多摘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52360" y="1123920"/>
            <a:ext cx="8496000" cy="649440"/>
            <a:chOff x="252360" y="1123920"/>
            <a:chExt cx="8496000" cy="649440"/>
          </a:xfrm>
        </p:grpSpPr>
        <p:sp>
          <p:nvSpPr>
            <p:cNvPr id="162" name=""/>
            <p:cNvSpPr/>
            <p:nvPr/>
          </p:nvSpPr>
          <p:spPr>
            <a:xfrm>
              <a:off x="8316720" y="1123920"/>
              <a:ext cx="431640" cy="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2360" y="1772640"/>
              <a:ext cx="5184720" cy="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68360" y="4221000"/>
            <a:ext cx="8675640" cy="2017800"/>
            <a:chOff x="468360" y="4221000"/>
            <a:chExt cx="8675640" cy="2017800"/>
          </a:xfrm>
        </p:grpSpPr>
        <p:sp>
          <p:nvSpPr>
            <p:cNvPr id="165" name="AutoShape 71"/>
            <p:cNvSpPr/>
            <p:nvPr/>
          </p:nvSpPr>
          <p:spPr>
            <a:xfrm>
              <a:off x="468360" y="4221000"/>
              <a:ext cx="8675640" cy="2017800"/>
            </a:xfrm>
            <a:prstGeom prst="cloudCallout">
              <a:avLst>
                <a:gd name="adj1" fmla="val -50935"/>
                <a:gd name="adj2" fmla="val 66444"/>
              </a:avLst>
            </a:prstGeom>
            <a:gradFill rotWithShape="0">
              <a:gsLst>
                <a:gs pos="0">
                  <a:srgbClr val="66ffff"/>
                </a:gs>
                <a:gs pos="50000">
                  <a:srgbClr val="ffffff"/>
                </a:gs>
                <a:gs pos="100000">
                  <a:srgbClr val="66ffff"/>
                </a:gs>
              </a:gsLst>
              <a:lin ang="5400000"/>
            </a:gradFill>
            <a:ln w="9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72"/>
            <p:cNvSpPr/>
            <p:nvPr/>
          </p:nvSpPr>
          <p:spPr>
            <a:xfrm>
              <a:off x="1476000" y="4460040"/>
              <a:ext cx="69850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说打算：先根据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（                  ）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（                               ）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求出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（                     ）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0"/>
            <p:cNvSpPr/>
            <p:nvPr/>
          </p:nvSpPr>
          <p:spPr>
            <a:xfrm>
              <a:off x="7669080" y="515772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…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3710160" y="4081320"/>
            <a:ext cx="286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35+5=40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710160" y="4656240"/>
            <a:ext cx="31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40+5=45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710160" y="5230800"/>
            <a:ext cx="286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45+5=50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11280" y="2421000"/>
          <a:ext cx="7993080" cy="1042920"/>
        </p:xfrm>
        <a:graphic>
          <a:graphicData uri="http://schemas.openxmlformats.org/drawingml/2006/table">
            <a:tbl>
              <a:tblPr/>
              <a:tblGrid>
                <a:gridCol w="1596960"/>
                <a:gridCol w="1600200"/>
                <a:gridCol w="1596960"/>
                <a:gridCol w="1598760"/>
                <a:gridCol w="1600200"/>
              </a:tblGrid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"/>
                        </a:rPr>
                        <a:t>第一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"/>
                        </a:rPr>
                        <a:t>第二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"/>
                        </a:rPr>
                        <a:t>第三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"/>
                        </a:rPr>
                        <a:t>第四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楷体"/>
                        </a:rPr>
                        <a:t>第五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66"/>
          <p:cNvSpPr/>
          <p:nvPr/>
        </p:nvSpPr>
        <p:spPr>
          <a:xfrm>
            <a:off x="4211640" y="2925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40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7"/>
          <p:cNvSpPr/>
          <p:nvPr/>
        </p:nvSpPr>
        <p:spPr>
          <a:xfrm>
            <a:off x="5869080" y="292572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45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8"/>
          <p:cNvSpPr/>
          <p:nvPr/>
        </p:nvSpPr>
        <p:spPr>
          <a:xfrm>
            <a:off x="7238880" y="2854440"/>
            <a:ext cx="1152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50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9"/>
          <p:cNvSpPr/>
          <p:nvPr/>
        </p:nvSpPr>
        <p:spPr>
          <a:xfrm>
            <a:off x="2698920" y="2925720"/>
            <a:ext cx="10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35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0"/>
          <p:cNvSpPr/>
          <p:nvPr/>
        </p:nvSpPr>
        <p:spPr>
          <a:xfrm>
            <a:off x="2266920" y="36464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第二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1"/>
          <p:cNvSpPr/>
          <p:nvPr/>
        </p:nvSpPr>
        <p:spPr>
          <a:xfrm>
            <a:off x="3708360" y="3573360"/>
            <a:ext cx="294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30+5=35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2"/>
          <p:cNvSpPr/>
          <p:nvPr/>
        </p:nvSpPr>
        <p:spPr>
          <a:xfrm>
            <a:off x="2288520" y="42228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第三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3"/>
          <p:cNvSpPr/>
          <p:nvPr/>
        </p:nvSpPr>
        <p:spPr>
          <a:xfrm>
            <a:off x="2270160" y="472752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第四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4"/>
          <p:cNvSpPr/>
          <p:nvPr/>
        </p:nvSpPr>
        <p:spPr>
          <a:xfrm>
            <a:off x="2453760" y="5230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第五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9" descr="未命名-6eee"/>
          <p:cNvPicPr/>
          <p:nvPr/>
        </p:nvPicPr>
        <p:blipFill>
          <a:blip r:embed="rId2"/>
          <a:srcRect l="0" t="0" r="3999" b="0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34920" y="476280"/>
            <a:ext cx="917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小猴帮妈妈摘桃，第一天摘了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30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个，以后每天都比前一天多摘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个。小猴第三天摘了多少个？第五天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65440" y="4583160"/>
            <a:ext cx="259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66920" y="2998800"/>
            <a:ext cx="1511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52720" y="2998800"/>
            <a:ext cx="1511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508720" y="3000240"/>
            <a:ext cx="1441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21440" y="3000240"/>
            <a:ext cx="1513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549600" y="5140440"/>
            <a:ext cx="2590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49600" y="5715000"/>
            <a:ext cx="2590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0"/>
          <p:cNvSpPr/>
          <p:nvPr/>
        </p:nvSpPr>
        <p:spPr>
          <a:xfrm>
            <a:off x="1692360" y="573408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答：第三天摘了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个，第五天摘了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楷体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5734080"/>
            <a:ext cx="5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95640" y="5662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566244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61080" y="5734080"/>
            <a:ext cx="57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9" descr="未命名-6eee"/>
          <p:cNvPicPr/>
          <p:nvPr/>
        </p:nvPicPr>
        <p:blipFill>
          <a:blip r:embed="rId2"/>
          <a:srcRect l="0" t="0" r="3999" b="0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2776680" y="3067200"/>
            <a:ext cx="1073160" cy="436320"/>
            <a:chOff x="2776680" y="3067200"/>
            <a:chExt cx="1073160" cy="436320"/>
          </a:xfrm>
        </p:grpSpPr>
        <p:sp>
          <p:nvSpPr>
            <p:cNvPr id="197" name="Line 9"/>
            <p:cNvSpPr/>
            <p:nvPr/>
          </p:nvSpPr>
          <p:spPr>
            <a:xfrm>
              <a:off x="2776680" y="3067200"/>
              <a:ext cx="107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箭头 174"/>
            <p:cNvSpPr/>
            <p:nvPr/>
          </p:nvSpPr>
          <p:spPr>
            <a:xfrm>
              <a:off x="3288240" y="3067200"/>
              <a:ext cx="0" cy="43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143240" y="3859200"/>
            <a:ext cx="1146240" cy="436680"/>
            <a:chOff x="4143240" y="3859200"/>
            <a:chExt cx="1146240" cy="436680"/>
          </a:xfrm>
        </p:grpSpPr>
        <p:sp>
          <p:nvSpPr>
            <p:cNvPr id="200" name="Line 11"/>
            <p:cNvSpPr/>
            <p:nvPr/>
          </p:nvSpPr>
          <p:spPr>
            <a:xfrm>
              <a:off x="4143240" y="3859200"/>
              <a:ext cx="1146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箭头 174"/>
            <p:cNvSpPr/>
            <p:nvPr/>
          </p:nvSpPr>
          <p:spPr>
            <a:xfrm>
              <a:off x="4745160" y="3859200"/>
              <a:ext cx="0" cy="43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047600" y="2855880"/>
            <a:ext cx="2084400" cy="574560"/>
            <a:chOff x="1047600" y="2855880"/>
            <a:chExt cx="2084400" cy="574560"/>
          </a:xfrm>
        </p:grpSpPr>
        <p:sp>
          <p:nvSpPr>
            <p:cNvPr id="203" name=""/>
            <p:cNvSpPr/>
            <p:nvPr/>
          </p:nvSpPr>
          <p:spPr>
            <a:xfrm>
              <a:off x="1047600" y="2856960"/>
              <a:ext cx="1725840" cy="57348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20"/>
            <p:cNvSpPr/>
            <p:nvPr/>
          </p:nvSpPr>
          <p:spPr>
            <a:xfrm>
              <a:off x="1047600" y="2855880"/>
              <a:ext cx="208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楷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"/>
                </a:rPr>
                <a:t>第一天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855960" y="2855880"/>
            <a:ext cx="1727280" cy="574560"/>
            <a:chOff x="3855960" y="2855880"/>
            <a:chExt cx="1727280" cy="574560"/>
          </a:xfrm>
        </p:grpSpPr>
        <p:sp>
          <p:nvSpPr>
            <p:cNvPr id="206" name=""/>
            <p:cNvSpPr/>
            <p:nvPr/>
          </p:nvSpPr>
          <p:spPr>
            <a:xfrm>
              <a:off x="3855960" y="2856960"/>
              <a:ext cx="1727280" cy="57348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1"/>
            <p:cNvSpPr/>
            <p:nvPr/>
          </p:nvSpPr>
          <p:spPr>
            <a:xfrm>
              <a:off x="4001760" y="2855880"/>
              <a:ext cx="152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多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200320" y="3505320"/>
            <a:ext cx="2374920" cy="718920"/>
            <a:chOff x="2200320" y="3505320"/>
            <a:chExt cx="2374920" cy="718920"/>
          </a:xfrm>
        </p:grpSpPr>
        <p:sp>
          <p:nvSpPr>
            <p:cNvPr id="209" name="Oval 6"/>
            <p:cNvSpPr/>
            <p:nvPr/>
          </p:nvSpPr>
          <p:spPr>
            <a:xfrm>
              <a:off x="2415960" y="3505320"/>
              <a:ext cx="1727280" cy="718920"/>
            </a:xfrm>
            <a:prstGeom prst="ellipse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2"/>
            <p:cNvSpPr/>
            <p:nvPr/>
          </p:nvSpPr>
          <p:spPr>
            <a:xfrm>
              <a:off x="2200320" y="357624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"/>
                </a:rPr>
                <a:t>第二天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289480" y="3571920"/>
            <a:ext cx="1749240" cy="577800"/>
            <a:chOff x="5289480" y="3571920"/>
            <a:chExt cx="1749240" cy="577800"/>
          </a:xfrm>
        </p:grpSpPr>
        <p:sp>
          <p:nvSpPr>
            <p:cNvPr id="212" name=""/>
            <p:cNvSpPr/>
            <p:nvPr/>
          </p:nvSpPr>
          <p:spPr>
            <a:xfrm>
              <a:off x="5289480" y="3571920"/>
              <a:ext cx="1728000" cy="577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3"/>
            <p:cNvSpPr/>
            <p:nvPr/>
          </p:nvSpPr>
          <p:spPr>
            <a:xfrm>
              <a:off x="5441040" y="3575520"/>
              <a:ext cx="159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多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786120" y="4297320"/>
            <a:ext cx="2084400" cy="719280"/>
            <a:chOff x="3786120" y="4297320"/>
            <a:chExt cx="2084400" cy="719280"/>
          </a:xfrm>
        </p:grpSpPr>
        <p:sp>
          <p:nvSpPr>
            <p:cNvPr id="215" name="Oval 4"/>
            <p:cNvSpPr/>
            <p:nvPr/>
          </p:nvSpPr>
          <p:spPr>
            <a:xfrm>
              <a:off x="3855600" y="4297320"/>
              <a:ext cx="1725840" cy="719280"/>
            </a:xfrm>
            <a:prstGeom prst="ellipse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4"/>
            <p:cNvSpPr/>
            <p:nvPr/>
          </p:nvSpPr>
          <p:spPr>
            <a:xfrm>
              <a:off x="3786120" y="4368600"/>
              <a:ext cx="208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"/>
                </a:rPr>
                <a:t>第三天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3"/>
          <p:cNvSpPr/>
          <p:nvPr/>
        </p:nvSpPr>
        <p:spPr>
          <a:xfrm>
            <a:off x="108000" y="333360"/>
            <a:ext cx="903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小猴帮妈妈摘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3782880" y="339840"/>
            <a:ext cx="4176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第一天摘了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30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08000" y="406440"/>
            <a:ext cx="9036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以后每天都比前一天多摘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-168120" y="765000"/>
            <a:ext cx="90230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小猴第三天摘了多少个？第五天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rcRect l="19246" t="4781" r="21730" b="5953"/>
          <a:stretch/>
        </p:blipFill>
        <p:spPr>
          <a:xfrm>
            <a:off x="8388360" y="6035760"/>
            <a:ext cx="723960" cy="79380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542880" y="2855880"/>
            <a:ext cx="4540320" cy="2741760"/>
            <a:chOff x="542880" y="2855880"/>
            <a:chExt cx="4540320" cy="2741760"/>
          </a:xfrm>
        </p:grpSpPr>
        <p:sp>
          <p:nvSpPr>
            <p:cNvPr id="223" name="Line 13"/>
            <p:cNvSpPr/>
            <p:nvPr/>
          </p:nvSpPr>
          <p:spPr>
            <a:xfrm>
              <a:off x="542880" y="2855880"/>
              <a:ext cx="2880" cy="72072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4"/>
            <p:cNvSpPr/>
            <p:nvPr/>
          </p:nvSpPr>
          <p:spPr>
            <a:xfrm>
              <a:off x="542880" y="3576600"/>
              <a:ext cx="15112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 flipH="1">
              <a:off x="2053800" y="3576600"/>
              <a:ext cx="1800" cy="7923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>
              <a:off x="2054160" y="4368960"/>
              <a:ext cx="1657440" cy="10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>
              <a:off x="3711600" y="4368960"/>
              <a:ext cx="0" cy="7185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8"/>
            <p:cNvSpPr/>
            <p:nvPr/>
          </p:nvSpPr>
          <p:spPr>
            <a:xfrm>
              <a:off x="3711600" y="5087880"/>
              <a:ext cx="1368000" cy="18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箭头 201"/>
            <p:cNvSpPr/>
            <p:nvPr/>
          </p:nvSpPr>
          <p:spPr>
            <a:xfrm>
              <a:off x="5079960" y="5089680"/>
              <a:ext cx="3240" cy="5079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584040" y="2781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从条件想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98560" y="3645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先求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54920" y="4437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再求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9"/>
          <p:cNvSpPr/>
          <p:nvPr/>
        </p:nvSpPr>
        <p:spPr>
          <a:xfrm>
            <a:off x="5219640" y="5084640"/>
            <a:ext cx="91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"/>
          <p:cNvPicPr/>
          <p:nvPr/>
        </p:nvPicPr>
        <p:blipFill>
          <a:blip r:embed="rId2"/>
          <a:srcRect l="53175" t="71364" r="40329" b="19987"/>
          <a:stretch/>
        </p:blipFill>
        <p:spPr>
          <a:xfrm>
            <a:off x="3132000" y="2494080"/>
            <a:ext cx="619200" cy="5173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95280" y="260280"/>
            <a:ext cx="304308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看条件 提问题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179280" y="4726080"/>
            <a:ext cx="8928360" cy="1189800"/>
          </a:xfrm>
          <a:prstGeom prst="rect">
            <a:avLst/>
          </a:prstGeom>
          <a:noFill/>
          <a:ln w="19080">
            <a:solidFill>
              <a:srgbClr val="6699ff"/>
            </a:solidFill>
            <a:miter/>
          </a:ln>
          <a:effectLst>
            <a:outerShdw dist="17819" dir="2700000" blurRad="0" rotWithShape="0">
              <a:srgbClr val="3d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)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（         ）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出（                    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5852238_090317674000_2"/>
          <p:cNvPicPr/>
          <p:nvPr/>
        </p:nvPicPr>
        <p:blipFill>
          <a:blip r:embed="rId3"/>
          <a:srcRect l="8957" t="0" r="12827" b="7580"/>
          <a:stretch/>
        </p:blipFill>
        <p:spPr>
          <a:xfrm>
            <a:off x="2584440" y="2178000"/>
            <a:ext cx="765360" cy="7063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4"/>
          <a:srcRect l="11810" t="17960" r="45068" b="50876"/>
          <a:stretch/>
        </p:blipFill>
        <p:spPr>
          <a:xfrm>
            <a:off x="1979640" y="1989000"/>
            <a:ext cx="5040360" cy="23767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6"/>
          <p:cNvSpPr/>
          <p:nvPr/>
        </p:nvSpPr>
        <p:spPr>
          <a:xfrm>
            <a:off x="1836720" y="1584360"/>
            <a:ext cx="244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</a:t>
            </a:r>
            <a:r>
              <a:rPr b="0" lang="en-US" sz="30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苹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6661080" y="213372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50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6659640" y="2060640"/>
            <a:ext cx="1368360" cy="720720"/>
          </a:xfrm>
          <a:prstGeom prst="wedgeRoundRectCallout">
            <a:avLst>
              <a:gd name="adj1" fmla="val -83643"/>
              <a:gd name="adj2" fmla="val 47796"/>
              <a:gd name="adj3" fmla="val 16667"/>
            </a:avLst>
          </a:prstGeom>
          <a:solidFill>
            <a:srgbClr val="b2e4f4">
              <a:alpha val="99000"/>
            </a:srgbClr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00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82840" y="5445000"/>
            <a:ext cx="729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61080" y="5445000"/>
            <a:ext cx="246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÷5=100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-9.3E-005 L -0.055208 0.470556 E">
                                      <p:cBhvr>
                                        <p:cTn id="230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3625 0.390463 E">
                                      <p:cBhvr>
                                        <p:cTn id="232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9583 0.424259 E">
                                      <p:cBhvr>
                                        <p:cTn id="236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165800" y="981000"/>
            <a:ext cx="944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5" descr=""/>
          <p:cNvPicPr/>
          <p:nvPr/>
        </p:nvPicPr>
        <p:blipFill>
          <a:blip r:embed="rId2"/>
          <a:srcRect l="30929" t="67169" r="60264" b="20780"/>
          <a:stretch/>
        </p:blipFill>
        <p:spPr>
          <a:xfrm>
            <a:off x="2793960" y="1486080"/>
            <a:ext cx="831960" cy="718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3"/>
          <a:srcRect l="53175" t="71364" r="40329" b="19987"/>
          <a:stretch/>
        </p:blipFill>
        <p:spPr>
          <a:xfrm>
            <a:off x="5580000" y="1701720"/>
            <a:ext cx="746280" cy="574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395280" y="260280"/>
            <a:ext cx="304308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看条件 提问题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179280" y="4797360"/>
            <a:ext cx="8856720" cy="1190520"/>
          </a:xfrm>
          <a:prstGeom prst="rect">
            <a:avLst/>
          </a:prstGeom>
          <a:noFill/>
          <a:ln w="19080">
            <a:solidFill>
              <a:srgbClr val="6699ff"/>
            </a:solidFill>
            <a:miter/>
          </a:ln>
          <a:effectLst>
            <a:outerShdw dist="17819" dir="2700000" blurRad="0" rotWithShape="0">
              <a:srgbClr val="3d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根据（              ）和（               ）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出（              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4"/>
          <a:srcRect l="27162" t="66149" r="33267" b="6439"/>
          <a:stretch/>
        </p:blipFill>
        <p:spPr>
          <a:xfrm>
            <a:off x="2050920" y="1125360"/>
            <a:ext cx="5318280" cy="230364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11"/>
          <p:cNvSpPr/>
          <p:nvPr/>
        </p:nvSpPr>
        <p:spPr>
          <a:xfrm>
            <a:off x="7023240" y="981000"/>
            <a:ext cx="1079280" cy="719280"/>
          </a:xfrm>
          <a:prstGeom prst="wedgeRoundRectCallout">
            <a:avLst>
              <a:gd name="adj1" fmla="val -59398"/>
              <a:gd name="adj2" fmla="val 113796"/>
              <a:gd name="adj3" fmla="val 16667"/>
            </a:avLst>
          </a:prstGeom>
          <a:solidFill>
            <a:srgbClr val="b2e4f4">
              <a:alpha val="99000"/>
            </a:srgbClr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47200" y="5518080"/>
            <a:ext cx="729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96000" y="5518080"/>
            <a:ext cx="2592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+20=120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0 L -0.308542 0.462037 E">
                                      <p:cBhvr>
                                        <p:cTn id="25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185 L -0.043958 0.551759 E">
                                      <p:cBhvr>
                                        <p:cTn id="260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58 0.006389 L -0.079375 0.556481 E">
                                      <p:cBhvr>
                                        <p:cTn id="264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95280" y="260280"/>
            <a:ext cx="304308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看条件 提问题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54" name="Group 2"/>
          <p:cNvGrpSpPr/>
          <p:nvPr/>
        </p:nvGrpSpPr>
        <p:grpSpPr>
          <a:xfrm>
            <a:off x="1116000" y="1486080"/>
            <a:ext cx="3600360" cy="1511280"/>
            <a:chOff x="1116000" y="1486080"/>
            <a:chExt cx="3600360" cy="1511280"/>
          </a:xfrm>
        </p:grpSpPr>
        <p:pic>
          <p:nvPicPr>
            <p:cNvPr id="255" name="Picture 3" descr="5852238_090317674000_2"/>
            <p:cNvPicPr/>
            <p:nvPr/>
          </p:nvPicPr>
          <p:blipFill>
            <a:blip r:embed="rId2"/>
            <a:srcRect l="8969" t="0" r="12835" b="7550"/>
            <a:stretch/>
          </p:blipFill>
          <p:spPr>
            <a:xfrm>
              <a:off x="1598400" y="1605960"/>
              <a:ext cx="546480" cy="44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4" descr=""/>
            <p:cNvPicPr/>
            <p:nvPr/>
          </p:nvPicPr>
          <p:blipFill>
            <a:blip r:embed="rId3"/>
            <a:srcRect l="11810" t="17960" r="45068" b="50876"/>
            <a:stretch/>
          </p:blipFill>
          <p:spPr>
            <a:xfrm>
              <a:off x="1116000" y="1486080"/>
              <a:ext cx="3600360" cy="151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Rectangle 5"/>
          <p:cNvSpPr/>
          <p:nvPr/>
        </p:nvSpPr>
        <p:spPr>
          <a:xfrm>
            <a:off x="468360" y="4726080"/>
            <a:ext cx="7993080" cy="1144440"/>
          </a:xfrm>
          <a:prstGeom prst="rect">
            <a:avLst/>
          </a:prstGeom>
          <a:noFill/>
          <a:ln w="28440">
            <a:solidFill>
              <a:srgbClr val="77c7b2"/>
            </a:solidFill>
            <a:miter/>
          </a:ln>
          <a:effectLst>
            <a:outerShdw dist="17819" dir="2700000" blurRad="0" rotWithShape="0">
              <a:srgbClr val="4777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根据（    ）和（    ），求出（   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根据（    ）和（    ），求出（   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" descr=""/>
          <p:cNvPicPr/>
          <p:nvPr/>
        </p:nvPicPr>
        <p:blipFill>
          <a:blip r:embed="rId4"/>
          <a:srcRect l="27162" t="66149" r="33267" b="6439"/>
          <a:stretch/>
        </p:blipFill>
        <p:spPr>
          <a:xfrm>
            <a:off x="1260360" y="2940120"/>
            <a:ext cx="3456000" cy="1496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5852238_090317674000_2"/>
          <p:cNvPicPr/>
          <p:nvPr/>
        </p:nvPicPr>
        <p:blipFill>
          <a:blip r:embed="rId5"/>
          <a:srcRect l="8661" t="3128" r="16025" b="6704"/>
          <a:stretch/>
        </p:blipFill>
        <p:spPr>
          <a:xfrm>
            <a:off x="7093080" y="2774880"/>
            <a:ext cx="647640" cy="582840"/>
          </a:xfrm>
          <a:prstGeom prst="rect">
            <a:avLst/>
          </a:prstGeom>
          <a:ln w="28440">
            <a:solidFill>
              <a:srgbClr val="77c7b2"/>
            </a:solidFill>
            <a:prstDash val="dash"/>
            <a:miter/>
          </a:ln>
        </p:spPr>
      </p:pic>
      <p:sp>
        <p:nvSpPr>
          <p:cNvPr id="260" name="Line 8"/>
          <p:cNvSpPr/>
          <p:nvPr/>
        </p:nvSpPr>
        <p:spPr>
          <a:xfrm>
            <a:off x="4992120" y="2158200"/>
            <a:ext cx="1912680" cy="7794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 flipH="1">
            <a:off x="5041080" y="3254400"/>
            <a:ext cx="1859040" cy="8762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1405080" y="1197000"/>
            <a:ext cx="86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ff"/>
                </a:solidFill>
                <a:latin typeface="方正黑体简体"/>
                <a:ea typeface="方正黑体简体"/>
              </a:rPr>
              <a:t>5</a:t>
            </a:r>
            <a:r>
              <a:rPr b="1" lang="zh-CN" sz="3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3637080" y="127008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ff"/>
                </a:solidFill>
                <a:latin typeface="方正黑体简体"/>
                <a:ea typeface="方正黑体简体"/>
              </a:rPr>
              <a:t>500</a:t>
            </a:r>
            <a:r>
              <a:rPr b="1" lang="zh-CN" sz="3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2" descr="5852238_090317674000_2"/>
          <p:cNvPicPr/>
          <p:nvPr/>
        </p:nvPicPr>
        <p:blipFill>
          <a:blip r:embed="rId6"/>
          <a:srcRect l="8661" t="3150" r="16030" b="6657"/>
          <a:stretch/>
        </p:blipFill>
        <p:spPr>
          <a:xfrm>
            <a:off x="2209680" y="5373720"/>
            <a:ext cx="505080" cy="4539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3" descr="5852238_090317674000_2"/>
          <p:cNvPicPr/>
          <p:nvPr/>
        </p:nvPicPr>
        <p:blipFill>
          <a:blip r:embed="rId7"/>
          <a:srcRect l="8661" t="3150" r="16030" b="6657"/>
          <a:stretch/>
        </p:blipFill>
        <p:spPr>
          <a:xfrm>
            <a:off x="6734160" y="4870440"/>
            <a:ext cx="504720" cy="45396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4"/>
          <p:cNvSpPr/>
          <p:nvPr/>
        </p:nvSpPr>
        <p:spPr>
          <a:xfrm>
            <a:off x="3925800" y="2925720"/>
            <a:ext cx="136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ff"/>
                </a:solidFill>
                <a:latin typeface="方正黑体简体"/>
                <a:ea typeface="方正黑体简体"/>
              </a:rPr>
              <a:t>20</a:t>
            </a:r>
            <a:r>
              <a:rPr b="1" lang="zh-CN" sz="3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5" descr=""/>
          <p:cNvPicPr/>
          <p:nvPr/>
        </p:nvPicPr>
        <p:blipFill>
          <a:blip r:embed="rId8"/>
          <a:srcRect l="30929" t="67169" r="60264" b="20780"/>
          <a:stretch/>
        </p:blipFill>
        <p:spPr>
          <a:xfrm>
            <a:off x="6775560" y="5302080"/>
            <a:ext cx="606240" cy="5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"/>
                            </p:stCondLst>
                            <p:childTnLst>
                              <p:par>
                                <p:cTn id="2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49294E-006 L 0.07448 0.52233 E">
                                      <p:cBhvr>
                                        <p:cTn id="283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"/>
                            </p:stCondLst>
                            <p:childTnLst>
                              <p:par>
                                <p:cTn id="2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2 0.01226 L 0.02882 0.50891 E">
                                      <p:cBhvr>
                                        <p:cTn id="290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"/>
                            </p:stCondLst>
                            <p:childTnLst>
                              <p:par>
                                <p:cTn id="3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88989E-006 L 0.00781 0.34814 E">
                                      <p:cBhvr>
                                        <p:cTn id="315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16:42:08Z</dcterms:created>
  <dc:creator>徐再传</dc:creator>
  <dc:description/>
  <dc:language>en-US</dc:language>
  <cp:lastModifiedBy>徐月春</cp:lastModifiedBy>
  <dcterms:modified xsi:type="dcterms:W3CDTF">2014-12-15T07:38:55Z</dcterms:modified>
  <cp:revision>30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79</vt:lpwstr>
  </property>
</Properties>
</file>